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wmf" ContentType="image/x-wmf"/>
  <Override PartName="/ppt/media/image1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6F2A-BE61-45E1-BE7E-B4A97ADA5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DE75-94B3-4F3A-A361-F31BB83C6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4A13-B5A3-4363-B490-F4236FA8C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140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0868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5376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140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0868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4CEC-A0BA-4F6A-BED6-01AB13A5F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83A-817B-475E-9438-114CDF4F7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2AD-A1B6-4606-88C8-35CB2E05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D58-2584-4ECD-8EB6-82FA270C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505-F5CE-4095-B025-07D6215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B74-1267-4681-8813-D05EBD5F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7240" y="103320"/>
            <a:ext cx="7770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2ED-0F8C-40C1-9A6E-3E0A5DAB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AD3-A9A1-469A-BE0D-64508C5A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C65C-3BDB-49D2-BE43-3FA0D339F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46B-B9D4-4E92-9EB9-2A40540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B7D-8EE3-4FBA-A51A-12FE4C9E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F41-DF96-44FF-8B79-5B71EF0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916-312F-48D9-9B86-01690FA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140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376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140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071-D1E3-4AB1-BBF1-8E28C56B3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F4D1-95FB-4BBD-A911-C003B5DC4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566-D799-4EFE-8D08-0B33F4F85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2E82-B5D6-47F0-B04B-6CA0EAF08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7240" y="103320"/>
            <a:ext cx="7770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BEA2-18E0-46FE-82A8-BFCA51B6C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3CC9-0A10-4F68-9961-FF6BAFDAC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9AF8-C44D-4420-99F0-84D3EB14B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B81C-79BB-4AB3-AE0D-7465D7B34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15480" y="7058160"/>
            <a:ext cx="127728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6257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48560" y="1116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5D48-D6B7-4B01-B9A5-B8F62E1D8949}" type="slidenum">
              <a:rPr b="0" lang="en-US" sz="8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 of 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16640" y="6843600"/>
            <a:ext cx="3017880" cy="42840"/>
            <a:chOff x="5516640" y="6843600"/>
            <a:chExt cx="3017880" cy="42840"/>
          </a:xfrm>
        </p:grpSpPr>
        <p:sp>
          <p:nvSpPr>
            <p:cNvPr id="6" name=""/>
            <p:cNvSpPr/>
            <p:nvPr/>
          </p:nvSpPr>
          <p:spPr>
            <a:xfrm>
              <a:off x="5516640" y="6843600"/>
              <a:ext cx="3017880" cy="12600"/>
            </a:xfrm>
            <a:prstGeom prst="rect">
              <a:avLst/>
            </a:prstGeom>
            <a:gradFill rotWithShape="0">
              <a:gsLst>
                <a:gs pos="0">
                  <a:srgbClr val="4b2e00"/>
                </a:gs>
                <a:gs pos="50000">
                  <a:srgbClr val="fe9b03"/>
                </a:gs>
                <a:gs pos="100000">
                  <a:srgbClr val="4b2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16640" y="6873840"/>
              <a:ext cx="3017880" cy="12600"/>
            </a:xfrm>
            <a:prstGeom prst="rect">
              <a:avLst/>
            </a:prstGeom>
            <a:gradFill rotWithShape="0">
              <a:gsLst>
                <a:gs pos="0">
                  <a:srgbClr val="4b2e00"/>
                </a:gs>
                <a:gs pos="50000">
                  <a:srgbClr val="fe9b03"/>
                </a:gs>
                <a:gs pos="100000">
                  <a:srgbClr val="4b2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6640" y="6858000"/>
              <a:ext cx="3017880" cy="126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5548320" y="6913440"/>
            <a:ext cx="311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Intelligence Information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236080" y="6369120"/>
            <a:ext cx="907920" cy="9126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5586480" y="6608880"/>
            <a:ext cx="308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Department of the Ar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812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68724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0FF-7797-458F-BBF8-736F4C82558E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804-D96C-403D-A9B8-E5811F13C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3320" y="6808680"/>
            <a:ext cx="16491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hyperlink" Target="http://images.google.com/imgres?imgurl=inservice.ua.edu/tech/images/computer.jpg&amp;imgrefurl=http://inservice.ua.edu/tech/purpose.html&amp;h=179&amp;w=220&amp;sz=7&amp;tbnid=wVN8K5ToAQgJ:&amp;tbnh=82&amp;tbnw=100&amp;prev=/images%3Fq%3Dcomputer%2Bicon%26hl%3Den%26lr%3D%26ie%3DUTF-8%26oe%3DUTF-8%26sa%3DG" TargetMode="External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52320" y="1771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Providing Timely 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and Relevant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telligenc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formation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to th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Army  &amp; 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telligenc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Community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65040" y="102960"/>
            <a:ext cx="853920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Department of the Army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Intelligence Information Services</a:t>
            </a:r>
            <a:endParaRPr b="1" i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7520" y="1735200"/>
            <a:ext cx="4822560" cy="45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41A1-10AF-41D5-B030-D2092F41A0B9}" type="slidenum">
              <a:t>1</a:t>
            </a:fld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92680" y="1776240"/>
            <a:ext cx="51242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ecure web based CO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sensitive CIA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quires registered PKI Certifi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29120"/>
            <a:ext cx="52927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ational level dissemination web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llaborative environment to share terrorist threats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lso, requires registered PKI Ce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1150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880" y="4644720"/>
            <a:ext cx="8043840" cy="1292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these COIs are limited to individuals whose organ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ve a valid "need to know" for the information contain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more information visit our web pages at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http://dadpm.inscom.ic.gov/dissem/dlac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http://dadpm.inscom.army.smil.mil/dissem/dla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60160" y="-360"/>
            <a:ext cx="7770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IASource &amp; NCTC Online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6360" y="1671480"/>
            <a:ext cx="3381480" cy="1122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"/>
          <p:cNvPicPr/>
          <p:nvPr/>
        </p:nvPicPr>
        <p:blipFill>
          <a:blip r:embed="rId2"/>
          <a:stretch/>
        </p:blipFill>
        <p:spPr>
          <a:xfrm>
            <a:off x="5337000" y="3255840"/>
            <a:ext cx="3257640" cy="1028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8640" y="6118200"/>
            <a:ext cx="7844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DoDIIS PKI enables access to other Communities of Interest (COI) that are PKI enabled… For example, DASO Accounts, JITF-CT CTKB, WISE, iCI, JCE/IWS, NSRP, Scattered Castles and 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D26D-7CA0-472B-BE85-7E196DF8BC10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2000" y="1525680"/>
            <a:ext cx="79135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The Open Source Information System (OSIS) is a virtual private network—a government intran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t provides a protected environment to exchange unclassified or FOUO/SBU US Government and other open source data among the Intelligence Community and other selected organiz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SIS also provides access to selected commercial data such as Janes, EIU,Oxford Analytica, and EBSCO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ffers a degree of anonymity over the Internet/NIPRNET…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users can only be traced back to an OSIS.GOV add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SIS Remote Access (RA) gives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those in an information poor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environment the ability to get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mportant IC and other information—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essential to mission accomplis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ny Army employee: military,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government, or contractor can obtain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sponsored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The Open Source Information System (OSIS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12" descr=""/>
          <p:cNvPicPr/>
          <p:nvPr/>
        </p:nvPicPr>
        <p:blipFill>
          <a:blip r:embed="rId1"/>
          <a:stretch/>
        </p:blipFill>
        <p:spPr>
          <a:xfrm>
            <a:off x="5445000" y="4349880"/>
            <a:ext cx="3354480" cy="18954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055520" y="6526080"/>
            <a:ext cx="4211640" cy="441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For more information, visit our AKO site—</a:t>
            </a:r>
            <a:br>
              <a:rPr sz="1200"/>
            </a:br>
            <a:r>
              <a:rPr b="1" lang="en-US" sz="1200" spc="-1" strike="noStrike" u="sng">
                <a:solidFill>
                  <a:srgbClr val="0000ff"/>
                </a:solidFill>
                <a:uFillTx/>
                <a:latin typeface="Trebuchet MS"/>
              </a:rPr>
              <a:t>https://www.us.army.mil/suite/page/1322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E13D-7B6C-40B0-8E24-27F07C5AC751}" type="slidenum">
              <a:t>11</a:t>
            </a:fld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71520" y="1338120"/>
            <a:ext cx="76183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xecutes DoD policy and procedures under DoD Intelligence Production Program (DoDIPP/DIA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nsures Army customers obtain new intelligence production from DIA, Service National Production Centers, and Joint Intelligence Cen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Researches and validates Army DoDIPP Intelligence Production Require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versees and manages the Army’s access and training to Community On-Line Intelligence System for End Users and Managers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7240" y="-10044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telligence Production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"/>
          <p:cNvPicPr/>
          <p:nvPr/>
        </p:nvPicPr>
        <p:blipFill>
          <a:blip r:embed="rId1"/>
          <a:stretch/>
        </p:blipFill>
        <p:spPr>
          <a:xfrm>
            <a:off x="654120" y="4978440"/>
            <a:ext cx="7770600" cy="1144440"/>
          </a:xfrm>
          <a:prstGeom prst="rect">
            <a:avLst/>
          </a:prstGeom>
          <a:ln w="76320">
            <a:solidFill>
              <a:srgbClr val="6666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051A-9313-4B08-908B-42F4F2F413F3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1800" y="1411200"/>
            <a:ext cx="6489720" cy="477216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nages for Army units: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A Compartmented Address Book (CAB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tatement of Intel Interests (SII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ading Requirements/Message traffic profil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quest SCI/Collateral Message Address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SSCS Address Groups (DAGs)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SA SIGINT End Products (SEP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GA National Exploitation System (NES) profil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CIASource / NCTC Online / iCI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nage access to Army SIPRNET M3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DoD Secure COI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LISEUM Production Requireme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oDIIS PKI Trusted Agent Training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rmy OSIS Access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52560" y="65160"/>
            <a:ext cx="6881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Daily Operation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31200" y="527040"/>
            <a:ext cx="3418560" cy="5875200"/>
            <a:chOff x="5731200" y="527040"/>
            <a:chExt cx="3418560" cy="5875200"/>
          </a:xfrm>
        </p:grpSpPr>
        <p:sp>
          <p:nvSpPr>
            <p:cNvPr id="316" name=""/>
            <p:cNvSpPr/>
            <p:nvPr/>
          </p:nvSpPr>
          <p:spPr>
            <a:xfrm flipH="1" rot="20517600">
              <a:off x="5892120" y="4794480"/>
              <a:ext cx="2947680" cy="608760"/>
            </a:xfrm>
            <a:custGeom>
              <a:avLst/>
              <a:gdLst>
                <a:gd name="textAreaLeft" fmla="*/ 360 w 2947680"/>
                <a:gd name="textAreaRight" fmla="*/ 2948400 w 29476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AB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S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182400">
              <a:off x="5741640" y="2622960"/>
              <a:ext cx="2948040" cy="479160"/>
            </a:xfrm>
            <a:custGeom>
              <a:avLst/>
              <a:gdLst>
                <a:gd name="textAreaLeft" fmla="*/ -360 w 2948040"/>
                <a:gd name="textAreaRight" fmla="*/ 2948040 w 29480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MADS           S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7282800" y="527040"/>
              <a:ext cx="680400" cy="5875200"/>
              <a:chOff x="7282800" y="527040"/>
              <a:chExt cx="680400" cy="5875200"/>
            </a:xfrm>
          </p:grpSpPr>
          <p:sp>
            <p:nvSpPr>
              <p:cNvPr id="319" name=""/>
              <p:cNvSpPr/>
              <p:nvPr/>
            </p:nvSpPr>
            <p:spPr>
              <a:xfrm>
                <a:off x="7282800" y="527040"/>
                <a:ext cx="680400" cy="5875200"/>
              </a:xfrm>
              <a:custGeom>
                <a:avLst/>
                <a:gdLst/>
                <a:ahLst/>
                <a:rect l="l" t="t" r="r" b="b"/>
                <a:pathLst>
                  <a:path w="43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433" y="96"/>
                    </a:lnTo>
                    <a:lnTo>
                      <a:pt x="433" y="3654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82800" y="527040"/>
                <a:ext cx="302040" cy="5875200"/>
              </a:xfrm>
              <a:custGeom>
                <a:avLst/>
                <a:gdLst/>
                <a:ahLst/>
                <a:rect l="l" t="t" r="r" b="b"/>
                <a:pathLst>
                  <a:path w="19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rot="510600">
              <a:off x="6500160" y="2134440"/>
              <a:ext cx="2624400" cy="532800"/>
            </a:xfrm>
            <a:custGeom>
              <a:avLst/>
              <a:gdLst>
                <a:gd name="textAreaLeft" fmla="*/ 0 w 2624400"/>
                <a:gd name="textAreaRight" fmla="*/ 2624760 w 262440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A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656400">
              <a:off x="6322320" y="834120"/>
              <a:ext cx="2477880" cy="533160"/>
            </a:xfrm>
            <a:custGeom>
              <a:avLst/>
              <a:gdLst>
                <a:gd name="textAreaLeft" fmla="*/ -360 w 2477880"/>
                <a:gd name="textAreaRight" fmla="*/ 2477880 w 24778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Times New Roman"/>
                </a:rPr>
                <a:t>COLISEU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291000">
              <a:off x="6467760" y="3962880"/>
              <a:ext cx="2606040" cy="53928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IGINT MAR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21132000">
              <a:off x="6218280" y="1648440"/>
              <a:ext cx="2453040" cy="498240"/>
            </a:xfrm>
            <a:custGeom>
              <a:avLst/>
              <a:gdLst>
                <a:gd name="textAreaLeft" fmla="*/ 360 w 2453040"/>
                <a:gd name="textAreaRight" fmla="*/ 2453760 w 245304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IA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67600">
              <a:off x="6467760" y="3306960"/>
              <a:ext cx="2606040" cy="53928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7c80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NCTC Onl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-12600" y="1053720"/>
            <a:ext cx="6350040" cy="126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4269-DC54-4559-8306-A0D268E14268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1665360"/>
            <a:ext cx="5562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intains over 40,000 web pages with over 100,000 external lin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ponsors web / portal sites to support customers w/o resources or skills to maintain their own 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Facilitates over 60 sponsored webs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nducts field site assistance vis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rovides Tailored Mobile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Implements hardware/software strategies that will increase the quality of customer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articipates in key conferences, meetings, exercises, and Ad Hoc requests for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11160" y="6516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Daily Operations </a:t>
            </a:r>
            <a:br>
              <a:rPr sz="3600"/>
            </a:b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(Continued)</a:t>
            </a:r>
            <a:endParaRPr b="1" i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71160" y="623880"/>
            <a:ext cx="3380760" cy="5875200"/>
            <a:chOff x="5771160" y="623880"/>
            <a:chExt cx="3380760" cy="5875200"/>
          </a:xfrm>
        </p:grpSpPr>
        <p:grpSp>
          <p:nvGrpSpPr>
            <p:cNvPr id="330" name=""/>
            <p:cNvGrpSpPr/>
            <p:nvPr/>
          </p:nvGrpSpPr>
          <p:grpSpPr>
            <a:xfrm>
              <a:off x="5771160" y="623880"/>
              <a:ext cx="3143880" cy="5875200"/>
              <a:chOff x="5771160" y="623880"/>
              <a:chExt cx="3143880" cy="5875200"/>
            </a:xfrm>
          </p:grpSpPr>
          <p:sp>
            <p:nvSpPr>
              <p:cNvPr id="331" name=""/>
              <p:cNvSpPr/>
              <p:nvPr/>
            </p:nvSpPr>
            <p:spPr>
              <a:xfrm flipH="1" rot="114600">
                <a:off x="5777640" y="4746600"/>
                <a:ext cx="2133360" cy="457200"/>
              </a:xfrm>
              <a:custGeom>
                <a:avLst/>
                <a:gdLst>
                  <a:gd name="textAreaLeft" fmla="*/ 360 w 2133360"/>
                  <a:gd name="textAreaRight" fmla="*/ 2134080 w 2133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cc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 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MDD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20026200">
                <a:off x="5926320" y="3210480"/>
                <a:ext cx="2594160" cy="456840"/>
              </a:xfrm>
              <a:custGeom>
                <a:avLst/>
                <a:gdLst>
                  <a:gd name="textAreaLeft" fmla="*/ 360 w 2594160"/>
                  <a:gd name="textAreaRight" fmla="*/ 2594880 w 25941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33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DS        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21348600">
                <a:off x="5926680" y="2689920"/>
                <a:ext cx="2594160" cy="456480"/>
              </a:xfrm>
              <a:custGeom>
                <a:avLst/>
                <a:gdLst>
                  <a:gd name="textAreaLeft" fmla="*/ 360 w 2594160"/>
                  <a:gd name="textAreaRight" fmla="*/ 2594880 w 259416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cc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HS           M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5920" y="623880"/>
                <a:ext cx="689040" cy="5875200"/>
              </a:xfrm>
              <a:custGeom>
                <a:avLst/>
                <a:gdLst/>
                <a:ahLst/>
                <a:rect l="l" t="t" r="r" b="b"/>
                <a:pathLst>
                  <a:path w="43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433" y="96"/>
                    </a:lnTo>
                    <a:lnTo>
                      <a:pt x="433" y="3654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24480" y="623880"/>
                <a:ext cx="304560" cy="5875200"/>
              </a:xfrm>
              <a:custGeom>
                <a:avLst/>
                <a:gdLst/>
                <a:ahLst/>
                <a:rect l="l" t="t" r="r" b="b"/>
                <a:pathLst>
                  <a:path w="19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47000">
                <a:off x="6996960" y="4365720"/>
                <a:ext cx="1447920" cy="4568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OS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835600">
                <a:off x="6694200" y="5051520"/>
                <a:ext cx="2057400" cy="456840"/>
              </a:xfrm>
              <a:custGeom>
                <a:avLst/>
                <a:gdLst>
                  <a:gd name="textAreaLeft" fmla="*/ 0 w 2057400"/>
                  <a:gd name="textAreaRight" fmla="*/ 2057400 w 205740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505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b2b2b2"/>
                    </a:solidFill>
                    <a:latin typeface="Times New Roman"/>
                  </a:rPr>
                  <a:t>AKO/AKO-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209400">
                <a:off x="6387840" y="1547280"/>
                <a:ext cx="2060640" cy="456480"/>
              </a:xfrm>
              <a:custGeom>
                <a:avLst/>
                <a:gdLst>
                  <a:gd name="textAreaLeft" fmla="*/ 360 w 2060640"/>
                  <a:gd name="textAreaRight" fmla="*/ 2061360 w 206064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3330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DCS  G-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986200">
                <a:off x="6149520" y="3826440"/>
                <a:ext cx="2740320" cy="529920"/>
              </a:xfrm>
              <a:custGeom>
                <a:avLst/>
                <a:gdLst>
                  <a:gd name="textAreaLeft" fmla="*/ 0 w 2740320"/>
                  <a:gd name="textAreaRight" fmla="*/ 2740680 w 2740320"/>
                  <a:gd name="textAreaTop" fmla="*/ 0 h 529920"/>
                  <a:gd name="textAreaBottom" fmla="*/ 530280 h 52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66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rot="264600">
              <a:off x="6616440" y="2156760"/>
              <a:ext cx="2438280" cy="456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9900"/>
                  </a:solidFill>
                  <a:latin typeface="Times New Roman"/>
                </a:rPr>
                <a:t>IDC 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1033600">
              <a:off x="6692760" y="980280"/>
              <a:ext cx="2438280" cy="456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Web Pag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-12600" y="1206360"/>
            <a:ext cx="6350040" cy="129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24840" bIns="-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7896-0841-4364-9853-B428EDC95B9D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nsite Assist Visit</a:t>
            </a:r>
            <a:br>
              <a:rPr sz="3600"/>
            </a:b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(68+ and counting…)</a:t>
            </a:r>
            <a:r>
              <a:rPr b="0" i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127080" y="5676840"/>
            <a:ext cx="1218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he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nam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apa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Kore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awaii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as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838080" y="2076480"/>
            <a:ext cx="7149960" cy="4025880"/>
            <a:chOff x="838080" y="2076480"/>
            <a:chExt cx="7149960" cy="4025880"/>
          </a:xfrm>
        </p:grpSpPr>
        <p:sp>
          <p:nvSpPr>
            <p:cNvPr id="346" name=""/>
            <p:cNvSpPr/>
            <p:nvPr/>
          </p:nvSpPr>
          <p:spPr>
            <a:xfrm>
              <a:off x="3873240" y="4667040"/>
              <a:ext cx="152280" cy="1526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0960" y="4095720"/>
              <a:ext cx="1125360" cy="430200"/>
            </a:xfrm>
            <a:custGeom>
              <a:avLst/>
              <a:gdLst/>
              <a:ahLst/>
              <a:rect l="l" t="t" r="r" b="b"/>
              <a:pathLst>
                <a:path w="601" h="234">
                  <a:moveTo>
                    <a:pt x="194" y="0"/>
                  </a:moveTo>
                  <a:lnTo>
                    <a:pt x="575" y="0"/>
                  </a:lnTo>
                  <a:lnTo>
                    <a:pt x="601" y="72"/>
                  </a:lnTo>
                  <a:lnTo>
                    <a:pt x="535" y="143"/>
                  </a:lnTo>
                  <a:lnTo>
                    <a:pt x="440" y="173"/>
                  </a:lnTo>
                  <a:lnTo>
                    <a:pt x="402" y="234"/>
                  </a:lnTo>
                  <a:lnTo>
                    <a:pt x="309" y="133"/>
                  </a:lnTo>
                  <a:lnTo>
                    <a:pt x="235" y="133"/>
                  </a:lnTo>
                  <a:lnTo>
                    <a:pt x="222" y="113"/>
                  </a:lnTo>
                  <a:lnTo>
                    <a:pt x="122" y="113"/>
                  </a:lnTo>
                  <a:lnTo>
                    <a:pt x="85" y="147"/>
                  </a:lnTo>
                  <a:lnTo>
                    <a:pt x="0" y="147"/>
                  </a:lnTo>
                  <a:lnTo>
                    <a:pt x="16" y="104"/>
                  </a:lnTo>
                  <a:lnTo>
                    <a:pt x="186" y="3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51440" y="2666880"/>
              <a:ext cx="335160" cy="541440"/>
            </a:xfrm>
            <a:custGeom>
              <a:avLst/>
              <a:gdLst/>
              <a:ahLst/>
              <a:rect l="l" t="t" r="r" b="b"/>
              <a:pathLst>
                <a:path w="179" h="294">
                  <a:moveTo>
                    <a:pt x="179" y="0"/>
                  </a:moveTo>
                  <a:lnTo>
                    <a:pt x="0" y="139"/>
                  </a:lnTo>
                  <a:lnTo>
                    <a:pt x="0" y="294"/>
                  </a:lnTo>
                  <a:lnTo>
                    <a:pt x="179" y="157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27600" y="2922480"/>
              <a:ext cx="123840" cy="407880"/>
            </a:xfrm>
            <a:custGeom>
              <a:avLst/>
              <a:gdLst/>
              <a:ahLst/>
              <a:rect l="l" t="t" r="r" b="b"/>
              <a:pathLst>
                <a:path w="66" h="221">
                  <a:moveTo>
                    <a:pt x="0" y="63"/>
                  </a:moveTo>
                  <a:lnTo>
                    <a:pt x="58" y="28"/>
                  </a:lnTo>
                  <a:lnTo>
                    <a:pt x="66" y="0"/>
                  </a:lnTo>
                  <a:lnTo>
                    <a:pt x="66" y="153"/>
                  </a:lnTo>
                  <a:lnTo>
                    <a:pt x="58" y="191"/>
                  </a:lnTo>
                  <a:lnTo>
                    <a:pt x="0" y="22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02400" y="3120840"/>
              <a:ext cx="41040" cy="10656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2" y="0"/>
                  </a:moveTo>
                  <a:lnTo>
                    <a:pt x="0" y="22"/>
                  </a:lnTo>
                  <a:lnTo>
                    <a:pt x="22" y="5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38840" y="2922480"/>
              <a:ext cx="12600" cy="349200"/>
            </a:xfrm>
            <a:custGeom>
              <a:avLst/>
              <a:gdLst/>
              <a:ahLst/>
              <a:rect l="l" t="t" r="r" b="b"/>
              <a:pathLst>
                <a:path w="7" h="189">
                  <a:moveTo>
                    <a:pt x="6" y="0"/>
                  </a:moveTo>
                  <a:lnTo>
                    <a:pt x="0" y="30"/>
                  </a:lnTo>
                  <a:lnTo>
                    <a:pt x="0" y="189"/>
                  </a:lnTo>
                  <a:lnTo>
                    <a:pt x="7" y="1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76440" y="5046480"/>
              <a:ext cx="90720" cy="314280"/>
            </a:xfrm>
            <a:custGeom>
              <a:avLst/>
              <a:gdLst/>
              <a:ahLst/>
              <a:rect l="l" t="t" r="r" b="b"/>
              <a:pathLst>
                <a:path w="48" h="171">
                  <a:moveTo>
                    <a:pt x="0" y="30"/>
                  </a:moveTo>
                  <a:lnTo>
                    <a:pt x="22" y="97"/>
                  </a:lnTo>
                  <a:lnTo>
                    <a:pt x="22" y="171"/>
                  </a:lnTo>
                  <a:lnTo>
                    <a:pt x="48" y="153"/>
                  </a:lnTo>
                  <a:lnTo>
                    <a:pt x="4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67160" y="5035320"/>
              <a:ext cx="282600" cy="292320"/>
            </a:xfrm>
            <a:custGeom>
              <a:avLst/>
              <a:gdLst/>
              <a:ahLst/>
              <a:rect l="l" t="t" r="r" b="b"/>
              <a:pathLst>
                <a:path w="151" h="159">
                  <a:moveTo>
                    <a:pt x="0" y="6"/>
                  </a:moveTo>
                  <a:lnTo>
                    <a:pt x="64" y="0"/>
                  </a:lnTo>
                  <a:lnTo>
                    <a:pt x="151" y="0"/>
                  </a:lnTo>
                  <a:lnTo>
                    <a:pt x="151" y="155"/>
                  </a:lnTo>
                  <a:lnTo>
                    <a:pt x="64" y="155"/>
                  </a:lnTo>
                  <a:lnTo>
                    <a:pt x="0" y="15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54440" y="5038560"/>
              <a:ext cx="133200" cy="399960"/>
            </a:xfrm>
            <a:custGeom>
              <a:avLst/>
              <a:gdLst/>
              <a:ahLst/>
              <a:rect l="l" t="t" r="r" b="b"/>
              <a:pathLst>
                <a:path w="71" h="217">
                  <a:moveTo>
                    <a:pt x="0" y="0"/>
                  </a:moveTo>
                  <a:lnTo>
                    <a:pt x="0" y="153"/>
                  </a:lnTo>
                  <a:lnTo>
                    <a:pt x="71" y="217"/>
                  </a:lnTo>
                  <a:lnTo>
                    <a:pt x="7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87640" y="5113080"/>
              <a:ext cx="163800" cy="32076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0" y="22"/>
                  </a:moveTo>
                  <a:lnTo>
                    <a:pt x="88" y="0"/>
                  </a:lnTo>
                  <a:lnTo>
                    <a:pt x="88" y="155"/>
                  </a:lnTo>
                  <a:lnTo>
                    <a:pt x="0" y="17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62320" y="5391000"/>
              <a:ext cx="108000" cy="444600"/>
            </a:xfrm>
            <a:custGeom>
              <a:avLst/>
              <a:gdLst/>
              <a:ahLst/>
              <a:rect l="l" t="t" r="r" b="b"/>
              <a:pathLst>
                <a:path w="57" h="242">
                  <a:moveTo>
                    <a:pt x="0" y="0"/>
                  </a:moveTo>
                  <a:lnTo>
                    <a:pt x="57" y="86"/>
                  </a:lnTo>
                  <a:lnTo>
                    <a:pt x="57" y="242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1440" y="5113080"/>
              <a:ext cx="139680" cy="405000"/>
            </a:xfrm>
            <a:custGeom>
              <a:avLst/>
              <a:gdLst/>
              <a:ahLst/>
              <a:rect l="l" t="t" r="r" b="b"/>
              <a:pathLst>
                <a:path w="74" h="220">
                  <a:moveTo>
                    <a:pt x="0" y="0"/>
                  </a:moveTo>
                  <a:lnTo>
                    <a:pt x="74" y="79"/>
                  </a:lnTo>
                  <a:lnTo>
                    <a:pt x="58" y="151"/>
                  </a:lnTo>
                  <a:lnTo>
                    <a:pt x="58" y="220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89320" y="5151240"/>
              <a:ext cx="288720" cy="501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14" y="273"/>
                  </a:moveTo>
                  <a:lnTo>
                    <a:pt x="0" y="187"/>
                  </a:lnTo>
                  <a:lnTo>
                    <a:pt x="32" y="99"/>
                  </a:lnTo>
                  <a:lnTo>
                    <a:pt x="155" y="0"/>
                  </a:lnTo>
                  <a:lnTo>
                    <a:pt x="155" y="153"/>
                  </a:lnTo>
                  <a:lnTo>
                    <a:pt x="34" y="250"/>
                  </a:lnTo>
                  <a:lnTo>
                    <a:pt x="14" y="273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78040" y="5106960"/>
              <a:ext cx="163440" cy="322200"/>
            </a:xfrm>
            <a:custGeom>
              <a:avLst/>
              <a:gdLst/>
              <a:ahLst/>
              <a:rect l="l" t="t" r="r" b="b"/>
              <a:pathLst>
                <a:path w="87" h="175">
                  <a:moveTo>
                    <a:pt x="0" y="24"/>
                  </a:moveTo>
                  <a:lnTo>
                    <a:pt x="0" y="175"/>
                  </a:lnTo>
                  <a:lnTo>
                    <a:pt x="87" y="153"/>
                  </a:lnTo>
                  <a:lnTo>
                    <a:pt x="8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41480" y="5106960"/>
              <a:ext cx="328680" cy="395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0"/>
                  </a:moveTo>
                  <a:lnTo>
                    <a:pt x="175" y="62"/>
                  </a:lnTo>
                  <a:lnTo>
                    <a:pt x="175" y="215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70160" y="5221080"/>
              <a:ext cx="250920" cy="292320"/>
            </a:xfrm>
            <a:custGeom>
              <a:avLst/>
              <a:gdLst/>
              <a:ahLst/>
              <a:rect l="l" t="t" r="r" b="b"/>
              <a:pathLst>
                <a:path w="135" h="159">
                  <a:moveTo>
                    <a:pt x="0" y="0"/>
                  </a:moveTo>
                  <a:lnTo>
                    <a:pt x="0" y="153"/>
                  </a:lnTo>
                  <a:lnTo>
                    <a:pt x="135" y="159"/>
                  </a:lnTo>
                  <a:lnTo>
                    <a:pt x="13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64000" y="5676840"/>
              <a:ext cx="142920" cy="415800"/>
            </a:xfrm>
            <a:custGeom>
              <a:avLst/>
              <a:gdLst/>
              <a:ahLst/>
              <a:rect l="l" t="t" r="r" b="b"/>
              <a:pathLst>
                <a:path w="76" h="226">
                  <a:moveTo>
                    <a:pt x="0" y="73"/>
                  </a:moveTo>
                  <a:lnTo>
                    <a:pt x="76" y="0"/>
                  </a:lnTo>
                  <a:lnTo>
                    <a:pt x="76" y="152"/>
                  </a:lnTo>
                  <a:lnTo>
                    <a:pt x="0" y="22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8880" y="5549760"/>
              <a:ext cx="44280" cy="287280"/>
            </a:xfrm>
            <a:custGeom>
              <a:avLst/>
              <a:gdLst/>
              <a:ahLst/>
              <a:rect l="l" t="t" r="r" b="b"/>
              <a:pathLst>
                <a:path w="24" h="156">
                  <a:moveTo>
                    <a:pt x="0" y="0"/>
                  </a:moveTo>
                  <a:lnTo>
                    <a:pt x="0" y="156"/>
                  </a:lnTo>
                  <a:lnTo>
                    <a:pt x="24" y="156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1320" y="5811840"/>
              <a:ext cx="112680" cy="2887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4"/>
                  </a:moveTo>
                  <a:lnTo>
                    <a:pt x="61" y="0"/>
                  </a:lnTo>
                  <a:lnTo>
                    <a:pt x="61" y="151"/>
                  </a:lnTo>
                  <a:lnTo>
                    <a:pt x="0" y="15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1720" y="5553000"/>
              <a:ext cx="39600" cy="549360"/>
            </a:xfrm>
            <a:custGeom>
              <a:avLst/>
              <a:gdLst/>
              <a:ahLst/>
              <a:rect l="l" t="t" r="r" b="b"/>
              <a:pathLst>
                <a:path w="21" h="299">
                  <a:moveTo>
                    <a:pt x="0" y="0"/>
                  </a:moveTo>
                  <a:lnTo>
                    <a:pt x="21" y="149"/>
                  </a:lnTo>
                  <a:lnTo>
                    <a:pt x="21" y="299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64000" y="4690800"/>
              <a:ext cx="120600" cy="325440"/>
            </a:xfrm>
            <a:custGeom>
              <a:avLst/>
              <a:gdLst/>
              <a:ahLst/>
              <a:rect l="l" t="t" r="r" b="b"/>
              <a:pathLst>
                <a:path w="64" h="177">
                  <a:moveTo>
                    <a:pt x="0" y="22"/>
                  </a:moveTo>
                  <a:lnTo>
                    <a:pt x="64" y="0"/>
                  </a:lnTo>
                  <a:lnTo>
                    <a:pt x="64" y="155"/>
                  </a:lnTo>
                  <a:lnTo>
                    <a:pt x="0" y="17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4600" y="4527360"/>
              <a:ext cx="158760" cy="452520"/>
            </a:xfrm>
            <a:custGeom>
              <a:avLst/>
              <a:gdLst/>
              <a:ahLst/>
              <a:rect l="l" t="t" r="r" b="b"/>
              <a:pathLst>
                <a:path w="85" h="246">
                  <a:moveTo>
                    <a:pt x="0" y="89"/>
                  </a:moveTo>
                  <a:lnTo>
                    <a:pt x="85" y="0"/>
                  </a:lnTo>
                  <a:lnTo>
                    <a:pt x="85" y="156"/>
                  </a:lnTo>
                  <a:lnTo>
                    <a:pt x="0" y="246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3640" y="4735440"/>
              <a:ext cx="90360" cy="426960"/>
            </a:xfrm>
            <a:custGeom>
              <a:avLst/>
              <a:gdLst/>
              <a:ahLst/>
              <a:rect l="l" t="t" r="r" b="b"/>
              <a:pathLst>
                <a:path w="49" h="232">
                  <a:moveTo>
                    <a:pt x="49" y="0"/>
                  </a:moveTo>
                  <a:lnTo>
                    <a:pt x="49" y="159"/>
                  </a:lnTo>
                  <a:lnTo>
                    <a:pt x="41" y="202"/>
                  </a:lnTo>
                  <a:lnTo>
                    <a:pt x="29" y="232"/>
                  </a:lnTo>
                  <a:lnTo>
                    <a:pt x="10" y="204"/>
                  </a:lnTo>
                  <a:lnTo>
                    <a:pt x="0" y="149"/>
                  </a:lnTo>
                  <a:lnTo>
                    <a:pt x="39" y="5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6360" y="4252680"/>
              <a:ext cx="123840" cy="41436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70"/>
                  </a:moveTo>
                  <a:lnTo>
                    <a:pt x="0" y="225"/>
                  </a:lnTo>
                  <a:lnTo>
                    <a:pt x="66" y="154"/>
                  </a:lnTo>
                  <a:lnTo>
                    <a:pt x="66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99120" y="3591000"/>
              <a:ext cx="92160" cy="404640"/>
            </a:xfrm>
            <a:custGeom>
              <a:avLst/>
              <a:gdLst/>
              <a:ahLst/>
              <a:rect l="l" t="t" r="r" b="b"/>
              <a:pathLst>
                <a:path w="49" h="220">
                  <a:moveTo>
                    <a:pt x="0" y="63"/>
                  </a:moveTo>
                  <a:lnTo>
                    <a:pt x="49" y="0"/>
                  </a:lnTo>
                  <a:lnTo>
                    <a:pt x="49" y="155"/>
                  </a:lnTo>
                  <a:lnTo>
                    <a:pt x="0" y="22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24240" y="3609720"/>
              <a:ext cx="74880" cy="390600"/>
            </a:xfrm>
            <a:custGeom>
              <a:avLst/>
              <a:gdLst/>
              <a:ahLst/>
              <a:rect l="l" t="t" r="r" b="b"/>
              <a:pathLst>
                <a:path w="40" h="212">
                  <a:moveTo>
                    <a:pt x="0" y="0"/>
                  </a:moveTo>
                  <a:lnTo>
                    <a:pt x="40" y="55"/>
                  </a:lnTo>
                  <a:lnTo>
                    <a:pt x="40" y="212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83200" y="3751200"/>
              <a:ext cx="96840" cy="460440"/>
            </a:xfrm>
            <a:custGeom>
              <a:avLst/>
              <a:gdLst/>
              <a:ahLst/>
              <a:rect l="l" t="t" r="r" b="b"/>
              <a:pathLst>
                <a:path w="52" h="250">
                  <a:moveTo>
                    <a:pt x="52" y="0"/>
                  </a:moveTo>
                  <a:lnTo>
                    <a:pt x="0" y="97"/>
                  </a:lnTo>
                  <a:lnTo>
                    <a:pt x="0" y="250"/>
                  </a:lnTo>
                  <a:lnTo>
                    <a:pt x="52" y="15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22720" y="3933720"/>
              <a:ext cx="60480" cy="208080"/>
            </a:xfrm>
            <a:custGeom>
              <a:avLst/>
              <a:gdLst/>
              <a:ahLst/>
              <a:rect l="l" t="t" r="r" b="b"/>
              <a:pathLst>
                <a:path w="32" h="113">
                  <a:moveTo>
                    <a:pt x="32" y="0"/>
                  </a:moveTo>
                  <a:lnTo>
                    <a:pt x="0" y="34"/>
                  </a:lnTo>
                  <a:lnTo>
                    <a:pt x="32" y="1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30840" y="3267000"/>
              <a:ext cx="101520" cy="318960"/>
            </a:xfrm>
            <a:custGeom>
              <a:avLst/>
              <a:gdLst/>
              <a:ahLst/>
              <a:rect l="l" t="t" r="r" b="b"/>
              <a:pathLst>
                <a:path w="54" h="173">
                  <a:moveTo>
                    <a:pt x="0" y="20"/>
                  </a:moveTo>
                  <a:lnTo>
                    <a:pt x="54" y="0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73600" y="3255840"/>
              <a:ext cx="57240" cy="325440"/>
            </a:xfrm>
            <a:custGeom>
              <a:avLst/>
              <a:gdLst/>
              <a:ahLst/>
              <a:rect l="l" t="t" r="r" b="b"/>
              <a:pathLst>
                <a:path w="31" h="177">
                  <a:moveTo>
                    <a:pt x="0" y="0"/>
                  </a:moveTo>
                  <a:lnTo>
                    <a:pt x="31" y="28"/>
                  </a:lnTo>
                  <a:lnTo>
                    <a:pt x="31" y="177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38680" y="3263760"/>
              <a:ext cx="34920" cy="34452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18" y="0"/>
                  </a:moveTo>
                  <a:lnTo>
                    <a:pt x="18" y="145"/>
                  </a:lnTo>
                  <a:lnTo>
                    <a:pt x="0" y="187"/>
                  </a:lnTo>
                  <a:lnTo>
                    <a:pt x="0" y="3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71920" y="3322440"/>
              <a:ext cx="266760" cy="31752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143" y="0"/>
                  </a:moveTo>
                  <a:lnTo>
                    <a:pt x="113" y="4"/>
                  </a:lnTo>
                  <a:lnTo>
                    <a:pt x="0" y="20"/>
                  </a:lnTo>
                  <a:lnTo>
                    <a:pt x="0" y="173"/>
                  </a:lnTo>
                  <a:lnTo>
                    <a:pt x="115" y="159"/>
                  </a:lnTo>
                  <a:lnTo>
                    <a:pt x="143" y="155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78320" y="3367080"/>
              <a:ext cx="93600" cy="368280"/>
            </a:xfrm>
            <a:custGeom>
              <a:avLst/>
              <a:gdLst/>
              <a:ahLst/>
              <a:rect l="l" t="t" r="r" b="b"/>
              <a:pathLst>
                <a:path w="50" h="200">
                  <a:moveTo>
                    <a:pt x="50" y="0"/>
                  </a:moveTo>
                  <a:lnTo>
                    <a:pt x="50" y="151"/>
                  </a:lnTo>
                  <a:lnTo>
                    <a:pt x="18" y="171"/>
                  </a:lnTo>
                  <a:lnTo>
                    <a:pt x="6" y="200"/>
                  </a:lnTo>
                  <a:lnTo>
                    <a:pt x="6" y="123"/>
                  </a:lnTo>
                  <a:lnTo>
                    <a:pt x="14" y="63"/>
                  </a:lnTo>
                  <a:lnTo>
                    <a:pt x="0" y="58"/>
                  </a:lnTo>
                  <a:lnTo>
                    <a:pt x="16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0520" y="3692520"/>
              <a:ext cx="431640" cy="1000080"/>
            </a:xfrm>
            <a:custGeom>
              <a:avLst/>
              <a:gdLst/>
              <a:ahLst/>
              <a:rect l="l" t="t" r="r" b="b"/>
              <a:pathLst>
                <a:path w="231" h="543">
                  <a:moveTo>
                    <a:pt x="0" y="0"/>
                  </a:moveTo>
                  <a:lnTo>
                    <a:pt x="0" y="154"/>
                  </a:lnTo>
                  <a:lnTo>
                    <a:pt x="82" y="280"/>
                  </a:lnTo>
                  <a:lnTo>
                    <a:pt x="231" y="543"/>
                  </a:lnTo>
                  <a:lnTo>
                    <a:pt x="231" y="391"/>
                  </a:lnTo>
                  <a:lnTo>
                    <a:pt x="9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49280" y="4424400"/>
              <a:ext cx="87120" cy="26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7560" y="4416480"/>
              <a:ext cx="304920" cy="517320"/>
            </a:xfrm>
            <a:custGeom>
              <a:avLst/>
              <a:gdLst/>
              <a:ahLst/>
              <a:rect l="l" t="t" r="r" b="b"/>
              <a:pathLst>
                <a:path w="163" h="281">
                  <a:moveTo>
                    <a:pt x="0" y="0"/>
                  </a:moveTo>
                  <a:lnTo>
                    <a:pt x="0" y="150"/>
                  </a:lnTo>
                  <a:lnTo>
                    <a:pt x="163" y="281"/>
                  </a:lnTo>
                  <a:lnTo>
                    <a:pt x="163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2480" y="4647960"/>
              <a:ext cx="349200" cy="289080"/>
            </a:xfrm>
            <a:custGeom>
              <a:avLst/>
              <a:gdLst/>
              <a:ahLst/>
              <a:rect l="l" t="t" r="r" b="b"/>
              <a:pathLst>
                <a:path w="186" h="157">
                  <a:moveTo>
                    <a:pt x="0" y="2"/>
                  </a:moveTo>
                  <a:lnTo>
                    <a:pt x="0" y="157"/>
                  </a:lnTo>
                  <a:lnTo>
                    <a:pt x="186" y="157"/>
                  </a:lnTo>
                  <a:lnTo>
                    <a:pt x="18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98440" y="4709880"/>
              <a:ext cx="417600" cy="47952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224" y="107"/>
                  </a:lnTo>
                  <a:lnTo>
                    <a:pt x="224" y="260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23960" y="4917960"/>
              <a:ext cx="325440" cy="2570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5520" y="4782960"/>
              <a:ext cx="141480" cy="277920"/>
            </a:xfrm>
            <a:custGeom>
              <a:avLst/>
              <a:gdLst/>
              <a:ahLst/>
              <a:rect l="l" t="t" r="r" b="b"/>
              <a:pathLst>
                <a:path w="75" h="151">
                  <a:moveTo>
                    <a:pt x="0" y="2"/>
                  </a:moveTo>
                  <a:lnTo>
                    <a:pt x="0" y="151"/>
                  </a:lnTo>
                  <a:lnTo>
                    <a:pt x="75" y="151"/>
                  </a:lnTo>
                  <a:lnTo>
                    <a:pt x="7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97000" y="4789440"/>
              <a:ext cx="245880" cy="482400"/>
            </a:xfrm>
            <a:custGeom>
              <a:avLst/>
              <a:gdLst/>
              <a:ahLst/>
              <a:rect l="l" t="t" r="r" b="b"/>
              <a:pathLst>
                <a:path w="132" h="262">
                  <a:moveTo>
                    <a:pt x="0" y="0"/>
                  </a:moveTo>
                  <a:lnTo>
                    <a:pt x="132" y="109"/>
                  </a:lnTo>
                  <a:lnTo>
                    <a:pt x="132" y="262"/>
                  </a:lnTo>
                  <a:lnTo>
                    <a:pt x="0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2880" y="4991040"/>
              <a:ext cx="111240" cy="480960"/>
            </a:xfrm>
            <a:custGeom>
              <a:avLst/>
              <a:gdLst/>
              <a:ahLst/>
              <a:rect l="l" t="t" r="r" b="b"/>
              <a:pathLst>
                <a:path w="59" h="262">
                  <a:moveTo>
                    <a:pt x="0" y="0"/>
                  </a:moveTo>
                  <a:lnTo>
                    <a:pt x="59" y="108"/>
                  </a:lnTo>
                  <a:lnTo>
                    <a:pt x="59" y="262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54120" y="5189400"/>
              <a:ext cx="123840" cy="3524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0" y="0"/>
                  </a:moveTo>
                  <a:lnTo>
                    <a:pt x="66" y="39"/>
                  </a:lnTo>
                  <a:lnTo>
                    <a:pt x="66" y="19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7960" y="5167080"/>
              <a:ext cx="82440" cy="368280"/>
            </a:xfrm>
            <a:custGeom>
              <a:avLst/>
              <a:gdLst/>
              <a:ahLst/>
              <a:rect l="l" t="t" r="r" b="b"/>
              <a:pathLst>
                <a:path w="45" h="200">
                  <a:moveTo>
                    <a:pt x="45" y="0"/>
                  </a:moveTo>
                  <a:lnTo>
                    <a:pt x="0" y="51"/>
                  </a:lnTo>
                  <a:lnTo>
                    <a:pt x="0" y="200"/>
                  </a:lnTo>
                  <a:lnTo>
                    <a:pt x="45" y="15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0400" y="5167080"/>
              <a:ext cx="157320" cy="331920"/>
            </a:xfrm>
            <a:custGeom>
              <a:avLst/>
              <a:gdLst/>
              <a:ahLst/>
              <a:rect l="l" t="t" r="r" b="b"/>
              <a:pathLst>
                <a:path w="84" h="180">
                  <a:moveTo>
                    <a:pt x="0" y="0"/>
                  </a:moveTo>
                  <a:lnTo>
                    <a:pt x="84" y="29"/>
                  </a:lnTo>
                  <a:lnTo>
                    <a:pt x="84" y="180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17520" y="5545080"/>
              <a:ext cx="301680" cy="385560"/>
            </a:xfrm>
            <a:custGeom>
              <a:avLst/>
              <a:gdLst/>
              <a:ahLst/>
              <a:rect l="l" t="t" r="r" b="b"/>
              <a:pathLst>
                <a:path w="161" h="210">
                  <a:moveTo>
                    <a:pt x="0" y="0"/>
                  </a:moveTo>
                  <a:lnTo>
                    <a:pt x="161" y="54"/>
                  </a:lnTo>
                  <a:lnTo>
                    <a:pt x="161" y="210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7720" y="5216400"/>
              <a:ext cx="199800" cy="614520"/>
            </a:xfrm>
            <a:custGeom>
              <a:avLst/>
              <a:gdLst/>
              <a:ahLst/>
              <a:rect l="l" t="t" r="r" b="b"/>
              <a:pathLst>
                <a:path w="106" h="334">
                  <a:moveTo>
                    <a:pt x="0" y="0"/>
                  </a:moveTo>
                  <a:lnTo>
                    <a:pt x="106" y="180"/>
                  </a:lnTo>
                  <a:lnTo>
                    <a:pt x="106" y="334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6520" y="2243160"/>
              <a:ext cx="66600" cy="471240"/>
            </a:xfrm>
            <a:custGeom>
              <a:avLst/>
              <a:gdLst/>
              <a:ahLst/>
              <a:rect l="l" t="t" r="r" b="b"/>
              <a:pathLst>
                <a:path w="36" h="256">
                  <a:moveTo>
                    <a:pt x="0" y="0"/>
                  </a:moveTo>
                  <a:lnTo>
                    <a:pt x="36" y="157"/>
                  </a:lnTo>
                  <a:lnTo>
                    <a:pt x="24" y="2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3448080"/>
              <a:ext cx="104760" cy="393480"/>
            </a:xfrm>
            <a:custGeom>
              <a:avLst/>
              <a:gdLst/>
              <a:ahLst/>
              <a:rect l="l" t="t" r="r" b="b"/>
              <a:pathLst>
                <a:path w="56" h="214">
                  <a:moveTo>
                    <a:pt x="0" y="0"/>
                  </a:moveTo>
                  <a:lnTo>
                    <a:pt x="56" y="79"/>
                  </a:lnTo>
                  <a:lnTo>
                    <a:pt x="44" y="131"/>
                  </a:lnTo>
                  <a:lnTo>
                    <a:pt x="44" y="214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040" y="2549520"/>
              <a:ext cx="392040" cy="330120"/>
            </a:xfrm>
            <a:custGeom>
              <a:avLst/>
              <a:gdLst/>
              <a:ahLst/>
              <a:rect l="l" t="t" r="r" b="b"/>
              <a:pathLst>
                <a:path w="209" h="179">
                  <a:moveTo>
                    <a:pt x="0" y="26"/>
                  </a:moveTo>
                  <a:lnTo>
                    <a:pt x="209" y="0"/>
                  </a:lnTo>
                  <a:lnTo>
                    <a:pt x="209" y="149"/>
                  </a:lnTo>
                  <a:lnTo>
                    <a:pt x="0" y="17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51040" y="2597040"/>
              <a:ext cx="150840" cy="426960"/>
            </a:xfrm>
            <a:custGeom>
              <a:avLst/>
              <a:gdLst/>
              <a:ahLst/>
              <a:rect l="l" t="t" r="r" b="b"/>
              <a:pathLst>
                <a:path w="81" h="232">
                  <a:moveTo>
                    <a:pt x="81" y="0"/>
                  </a:moveTo>
                  <a:lnTo>
                    <a:pt x="81" y="151"/>
                  </a:lnTo>
                  <a:lnTo>
                    <a:pt x="0" y="232"/>
                  </a:lnTo>
                  <a:lnTo>
                    <a:pt x="0" y="7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8160" y="2189160"/>
              <a:ext cx="222480" cy="291960"/>
            </a:xfrm>
            <a:custGeom>
              <a:avLst/>
              <a:gdLst/>
              <a:ahLst/>
              <a:rect l="l" t="t" r="r" b="b"/>
              <a:pathLst>
                <a:path w="119" h="159">
                  <a:moveTo>
                    <a:pt x="119" y="0"/>
                  </a:moveTo>
                  <a:lnTo>
                    <a:pt x="14" y="97"/>
                  </a:lnTo>
                  <a:lnTo>
                    <a:pt x="0" y="153"/>
                  </a:lnTo>
                  <a:lnTo>
                    <a:pt x="95" y="121"/>
                  </a:lnTo>
                  <a:lnTo>
                    <a:pt x="119" y="15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79760" y="2355840"/>
              <a:ext cx="123840" cy="14580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66" y="0"/>
                  </a:moveTo>
                  <a:lnTo>
                    <a:pt x="0" y="54"/>
                  </a:lnTo>
                  <a:lnTo>
                    <a:pt x="66" y="7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08280" y="2757240"/>
              <a:ext cx="84240" cy="403560"/>
            </a:xfrm>
            <a:custGeom>
              <a:avLst/>
              <a:gdLst/>
              <a:ahLst/>
              <a:rect l="l" t="t" r="r" b="b"/>
              <a:pathLst>
                <a:path w="46" h="219">
                  <a:moveTo>
                    <a:pt x="46" y="0"/>
                  </a:moveTo>
                  <a:lnTo>
                    <a:pt x="0" y="60"/>
                  </a:lnTo>
                  <a:lnTo>
                    <a:pt x="0" y="219"/>
                  </a:lnTo>
                  <a:lnTo>
                    <a:pt x="46" y="15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68680" y="2890800"/>
              <a:ext cx="34920" cy="328680"/>
            </a:xfrm>
            <a:custGeom>
              <a:avLst/>
              <a:gdLst/>
              <a:ahLst/>
              <a:rect l="l" t="t" r="r" b="b"/>
              <a:pathLst>
                <a:path w="18" h="179">
                  <a:moveTo>
                    <a:pt x="18" y="0"/>
                  </a:moveTo>
                  <a:lnTo>
                    <a:pt x="18" y="145"/>
                  </a:lnTo>
                  <a:lnTo>
                    <a:pt x="14" y="179"/>
                  </a:lnTo>
                  <a:lnTo>
                    <a:pt x="0" y="14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9880" y="2820960"/>
              <a:ext cx="106200" cy="150840"/>
            </a:xfrm>
            <a:custGeom>
              <a:avLst/>
              <a:gdLst/>
              <a:ahLst/>
              <a:rect l="l" t="t" r="r" b="b"/>
              <a:pathLst>
                <a:path w="57" h="82">
                  <a:moveTo>
                    <a:pt x="57" y="0"/>
                  </a:moveTo>
                  <a:lnTo>
                    <a:pt x="0" y="58"/>
                  </a:lnTo>
                  <a:lnTo>
                    <a:pt x="16" y="82"/>
                  </a:lnTo>
                  <a:lnTo>
                    <a:pt x="57" y="5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8280" y="3098880"/>
              <a:ext cx="110880" cy="21240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9" y="0"/>
                  </a:moveTo>
                  <a:lnTo>
                    <a:pt x="0" y="77"/>
                  </a:lnTo>
                  <a:lnTo>
                    <a:pt x="0" y="92"/>
                  </a:lnTo>
                  <a:lnTo>
                    <a:pt x="44" y="116"/>
                  </a:lnTo>
                  <a:lnTo>
                    <a:pt x="59" y="11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10080" y="3160800"/>
              <a:ext cx="693720" cy="417240"/>
            </a:xfrm>
            <a:custGeom>
              <a:avLst/>
              <a:gdLst/>
              <a:ahLst/>
              <a:rect l="l" t="t" r="r" b="b"/>
              <a:pathLst>
                <a:path w="371" h="227">
                  <a:moveTo>
                    <a:pt x="0" y="43"/>
                  </a:moveTo>
                  <a:lnTo>
                    <a:pt x="53" y="0"/>
                  </a:lnTo>
                  <a:lnTo>
                    <a:pt x="53" y="41"/>
                  </a:lnTo>
                  <a:lnTo>
                    <a:pt x="329" y="41"/>
                  </a:lnTo>
                  <a:lnTo>
                    <a:pt x="371" y="108"/>
                  </a:lnTo>
                  <a:lnTo>
                    <a:pt x="346" y="128"/>
                  </a:lnTo>
                  <a:lnTo>
                    <a:pt x="369" y="185"/>
                  </a:lnTo>
                  <a:lnTo>
                    <a:pt x="347" y="209"/>
                  </a:lnTo>
                  <a:lnTo>
                    <a:pt x="282" y="209"/>
                  </a:lnTo>
                  <a:lnTo>
                    <a:pt x="282" y="227"/>
                  </a:lnTo>
                  <a:lnTo>
                    <a:pt x="0" y="22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6920" y="2730240"/>
              <a:ext cx="782640" cy="681120"/>
            </a:xfrm>
            <a:custGeom>
              <a:avLst/>
              <a:gdLst/>
              <a:ahLst/>
              <a:rect l="l" t="t" r="r" b="b"/>
              <a:pathLst>
                <a:path w="417" h="370">
                  <a:moveTo>
                    <a:pt x="0" y="234"/>
                  </a:moveTo>
                  <a:lnTo>
                    <a:pt x="0" y="273"/>
                  </a:lnTo>
                  <a:lnTo>
                    <a:pt x="274" y="273"/>
                  </a:lnTo>
                  <a:lnTo>
                    <a:pt x="318" y="340"/>
                  </a:lnTo>
                  <a:lnTo>
                    <a:pt x="369" y="350"/>
                  </a:lnTo>
                  <a:lnTo>
                    <a:pt x="371" y="370"/>
                  </a:lnTo>
                  <a:lnTo>
                    <a:pt x="407" y="342"/>
                  </a:lnTo>
                  <a:lnTo>
                    <a:pt x="417" y="218"/>
                  </a:lnTo>
                  <a:lnTo>
                    <a:pt x="417" y="133"/>
                  </a:lnTo>
                  <a:lnTo>
                    <a:pt x="401" y="119"/>
                  </a:lnTo>
                  <a:lnTo>
                    <a:pt x="409" y="0"/>
                  </a:lnTo>
                  <a:lnTo>
                    <a:pt x="320" y="0"/>
                  </a:lnTo>
                  <a:lnTo>
                    <a:pt x="224" y="95"/>
                  </a:lnTo>
                  <a:lnTo>
                    <a:pt x="240" y="127"/>
                  </a:lnTo>
                  <a:lnTo>
                    <a:pt x="181" y="170"/>
                  </a:lnTo>
                  <a:lnTo>
                    <a:pt x="107" y="160"/>
                  </a:lnTo>
                  <a:lnTo>
                    <a:pt x="42" y="160"/>
                  </a:lnTo>
                  <a:lnTo>
                    <a:pt x="28" y="20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4640" y="2735280"/>
              <a:ext cx="288720" cy="347400"/>
            </a:xfrm>
            <a:custGeom>
              <a:avLst/>
              <a:gdLst/>
              <a:ahLst/>
              <a:rect l="l" t="t" r="r" b="b"/>
              <a:pathLst>
                <a:path w="155" h="189">
                  <a:moveTo>
                    <a:pt x="10" y="0"/>
                  </a:moveTo>
                  <a:lnTo>
                    <a:pt x="155" y="0"/>
                  </a:lnTo>
                  <a:lnTo>
                    <a:pt x="149" y="46"/>
                  </a:lnTo>
                  <a:lnTo>
                    <a:pt x="123" y="56"/>
                  </a:lnTo>
                  <a:lnTo>
                    <a:pt x="83" y="189"/>
                  </a:lnTo>
                  <a:lnTo>
                    <a:pt x="18" y="189"/>
                  </a:lnTo>
                  <a:lnTo>
                    <a:pt x="18" y="130"/>
                  </a:lnTo>
                  <a:lnTo>
                    <a:pt x="0" y="1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08720" y="2612880"/>
              <a:ext cx="218880" cy="469800"/>
            </a:xfrm>
            <a:custGeom>
              <a:avLst/>
              <a:gdLst/>
              <a:ahLst/>
              <a:rect l="l" t="t" r="r" b="b"/>
              <a:pathLst>
                <a:path w="116" h="256">
                  <a:moveTo>
                    <a:pt x="72" y="67"/>
                  </a:moveTo>
                  <a:lnTo>
                    <a:pt x="116" y="0"/>
                  </a:lnTo>
                  <a:lnTo>
                    <a:pt x="116" y="234"/>
                  </a:lnTo>
                  <a:lnTo>
                    <a:pt x="74" y="256"/>
                  </a:lnTo>
                  <a:lnTo>
                    <a:pt x="0" y="254"/>
                  </a:lnTo>
                  <a:lnTo>
                    <a:pt x="40" y="125"/>
                  </a:lnTo>
                  <a:lnTo>
                    <a:pt x="68" y="113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7600" y="2352600"/>
              <a:ext cx="460440" cy="687240"/>
            </a:xfrm>
            <a:custGeom>
              <a:avLst/>
              <a:gdLst/>
              <a:ahLst/>
              <a:rect l="l" t="t" r="r" b="b"/>
              <a:pathLst>
                <a:path w="246" h="373">
                  <a:moveTo>
                    <a:pt x="0" y="145"/>
                  </a:moveTo>
                  <a:lnTo>
                    <a:pt x="0" y="373"/>
                  </a:lnTo>
                  <a:lnTo>
                    <a:pt x="59" y="340"/>
                  </a:lnTo>
                  <a:lnTo>
                    <a:pt x="63" y="310"/>
                  </a:lnTo>
                  <a:lnTo>
                    <a:pt x="246" y="177"/>
                  </a:lnTo>
                  <a:lnTo>
                    <a:pt x="236" y="127"/>
                  </a:lnTo>
                  <a:lnTo>
                    <a:pt x="204" y="113"/>
                  </a:lnTo>
                  <a:lnTo>
                    <a:pt x="182" y="6"/>
                  </a:lnTo>
                  <a:lnTo>
                    <a:pt x="133" y="20"/>
                  </a:lnTo>
                  <a:lnTo>
                    <a:pt x="107" y="0"/>
                  </a:lnTo>
                  <a:lnTo>
                    <a:pt x="59" y="38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81640" y="3054240"/>
              <a:ext cx="446040" cy="250920"/>
            </a:xfrm>
            <a:custGeom>
              <a:avLst/>
              <a:gdLst/>
              <a:ahLst/>
              <a:rect l="l" t="t" r="r" b="b"/>
              <a:pathLst>
                <a:path w="238" h="136">
                  <a:moveTo>
                    <a:pt x="6" y="16"/>
                  </a:moveTo>
                  <a:lnTo>
                    <a:pt x="143" y="16"/>
                  </a:lnTo>
                  <a:lnTo>
                    <a:pt x="177" y="0"/>
                  </a:lnTo>
                  <a:lnTo>
                    <a:pt x="193" y="36"/>
                  </a:lnTo>
                  <a:lnTo>
                    <a:pt x="171" y="58"/>
                  </a:lnTo>
                  <a:lnTo>
                    <a:pt x="203" y="116"/>
                  </a:lnTo>
                  <a:lnTo>
                    <a:pt x="238" y="116"/>
                  </a:lnTo>
                  <a:lnTo>
                    <a:pt x="187" y="136"/>
                  </a:lnTo>
                  <a:lnTo>
                    <a:pt x="141" y="90"/>
                  </a:lnTo>
                  <a:lnTo>
                    <a:pt x="0" y="9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84680" y="3219480"/>
              <a:ext cx="90720" cy="1108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30" y="56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70480" y="3217680"/>
              <a:ext cx="214200" cy="142920"/>
            </a:xfrm>
            <a:custGeom>
              <a:avLst/>
              <a:gdLst/>
              <a:ahLst/>
              <a:rect l="l" t="t" r="r" b="b"/>
              <a:pathLst>
                <a:path w="115" h="78">
                  <a:moveTo>
                    <a:pt x="6" y="0"/>
                  </a:moveTo>
                  <a:lnTo>
                    <a:pt x="115" y="0"/>
                  </a:lnTo>
                  <a:lnTo>
                    <a:pt x="115" y="62"/>
                  </a:lnTo>
                  <a:lnTo>
                    <a:pt x="0" y="7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18120" y="3360600"/>
              <a:ext cx="187200" cy="35100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46" y="0"/>
                  </a:moveTo>
                  <a:lnTo>
                    <a:pt x="22" y="21"/>
                  </a:lnTo>
                  <a:lnTo>
                    <a:pt x="43" y="76"/>
                  </a:lnTo>
                  <a:lnTo>
                    <a:pt x="22" y="102"/>
                  </a:lnTo>
                  <a:lnTo>
                    <a:pt x="0" y="131"/>
                  </a:lnTo>
                  <a:lnTo>
                    <a:pt x="43" y="190"/>
                  </a:lnTo>
                  <a:lnTo>
                    <a:pt x="87" y="131"/>
                  </a:lnTo>
                  <a:lnTo>
                    <a:pt x="100" y="64"/>
                  </a:lnTo>
                  <a:lnTo>
                    <a:pt x="84" y="61"/>
                  </a:lnTo>
                  <a:lnTo>
                    <a:pt x="99" y="27"/>
                  </a:lnTo>
                  <a:lnTo>
                    <a:pt x="96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37120" y="3543120"/>
              <a:ext cx="144360" cy="247680"/>
            </a:xfrm>
            <a:custGeom>
              <a:avLst/>
              <a:gdLst/>
              <a:ahLst/>
              <a:rect l="l" t="t" r="r" b="b"/>
              <a:pathLst>
                <a:path w="77" h="134">
                  <a:moveTo>
                    <a:pt x="66" y="0"/>
                  </a:moveTo>
                  <a:lnTo>
                    <a:pt x="0" y="0"/>
                  </a:lnTo>
                  <a:lnTo>
                    <a:pt x="0" y="134"/>
                  </a:lnTo>
                  <a:lnTo>
                    <a:pt x="64" y="134"/>
                  </a:lnTo>
                  <a:lnTo>
                    <a:pt x="77" y="113"/>
                  </a:lnTo>
                  <a:lnTo>
                    <a:pt x="44" y="71"/>
                  </a:lnTo>
                  <a:lnTo>
                    <a:pt x="45" y="3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22760" y="3579840"/>
              <a:ext cx="536760" cy="341280"/>
            </a:xfrm>
            <a:custGeom>
              <a:avLst/>
              <a:gdLst/>
              <a:ahLst/>
              <a:rect l="l" t="t" r="r" b="b"/>
              <a:pathLst>
                <a:path w="287" h="185">
                  <a:moveTo>
                    <a:pt x="0" y="0"/>
                  </a:moveTo>
                  <a:lnTo>
                    <a:pt x="223" y="0"/>
                  </a:lnTo>
                  <a:lnTo>
                    <a:pt x="223" y="115"/>
                  </a:lnTo>
                  <a:lnTo>
                    <a:pt x="287" y="115"/>
                  </a:lnTo>
                  <a:lnTo>
                    <a:pt x="251" y="185"/>
                  </a:lnTo>
                  <a:lnTo>
                    <a:pt x="175" y="165"/>
                  </a:lnTo>
                  <a:lnTo>
                    <a:pt x="150" y="73"/>
                  </a:lnTo>
                  <a:lnTo>
                    <a:pt x="141" y="51"/>
                  </a:lnTo>
                  <a:lnTo>
                    <a:pt x="86" y="34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98560" y="3524040"/>
              <a:ext cx="924120" cy="533520"/>
            </a:xfrm>
            <a:custGeom>
              <a:avLst/>
              <a:gdLst/>
              <a:ahLst/>
              <a:rect l="l" t="t" r="r" b="b"/>
              <a:pathLst>
                <a:path w="486" h="252">
                  <a:moveTo>
                    <a:pt x="0" y="0"/>
                  </a:moveTo>
                  <a:lnTo>
                    <a:pt x="460" y="0"/>
                  </a:lnTo>
                  <a:lnTo>
                    <a:pt x="474" y="18"/>
                  </a:lnTo>
                  <a:lnTo>
                    <a:pt x="454" y="40"/>
                  </a:lnTo>
                  <a:lnTo>
                    <a:pt x="486" y="70"/>
                  </a:lnTo>
                  <a:lnTo>
                    <a:pt x="486" y="252"/>
                  </a:lnTo>
                  <a:lnTo>
                    <a:pt x="0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54120" y="2576520"/>
              <a:ext cx="946080" cy="587160"/>
            </a:xfrm>
            <a:custGeom>
              <a:avLst/>
              <a:gdLst/>
              <a:ahLst/>
              <a:rect l="l" t="t" r="r" b="b"/>
              <a:pathLst>
                <a:path w="506" h="319">
                  <a:moveTo>
                    <a:pt x="0" y="0"/>
                  </a:moveTo>
                  <a:lnTo>
                    <a:pt x="496" y="0"/>
                  </a:lnTo>
                  <a:lnTo>
                    <a:pt x="496" y="25"/>
                  </a:lnTo>
                  <a:lnTo>
                    <a:pt x="474" y="51"/>
                  </a:lnTo>
                  <a:lnTo>
                    <a:pt x="506" y="89"/>
                  </a:lnTo>
                  <a:lnTo>
                    <a:pt x="506" y="228"/>
                  </a:lnTo>
                  <a:lnTo>
                    <a:pt x="484" y="228"/>
                  </a:lnTo>
                  <a:lnTo>
                    <a:pt x="484" y="319"/>
                  </a:lnTo>
                  <a:lnTo>
                    <a:pt x="398" y="291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59160" y="2984400"/>
              <a:ext cx="823680" cy="45576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0"/>
                  </a:moveTo>
                  <a:lnTo>
                    <a:pt x="374" y="0"/>
                  </a:lnTo>
                  <a:lnTo>
                    <a:pt x="386" y="28"/>
                  </a:lnTo>
                  <a:lnTo>
                    <a:pt x="384" y="62"/>
                  </a:lnTo>
                  <a:lnTo>
                    <a:pt x="420" y="96"/>
                  </a:lnTo>
                  <a:lnTo>
                    <a:pt x="439" y="137"/>
                  </a:lnTo>
                  <a:lnTo>
                    <a:pt x="386" y="176"/>
                  </a:lnTo>
                  <a:lnTo>
                    <a:pt x="396" y="202"/>
                  </a:lnTo>
                  <a:lnTo>
                    <a:pt x="352" y="248"/>
                  </a:lnTo>
                  <a:lnTo>
                    <a:pt x="52" y="248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9320" y="2076480"/>
              <a:ext cx="842760" cy="911160"/>
            </a:xfrm>
            <a:custGeom>
              <a:avLst/>
              <a:gdLst/>
              <a:ahLst/>
              <a:rect l="l" t="t" r="r" b="b"/>
              <a:pathLst>
                <a:path w="451" h="495">
                  <a:moveTo>
                    <a:pt x="0" y="0"/>
                  </a:moveTo>
                  <a:lnTo>
                    <a:pt x="151" y="0"/>
                  </a:lnTo>
                  <a:lnTo>
                    <a:pt x="451" y="60"/>
                  </a:lnTo>
                  <a:lnTo>
                    <a:pt x="348" y="157"/>
                  </a:lnTo>
                  <a:lnTo>
                    <a:pt x="304" y="304"/>
                  </a:lnTo>
                  <a:lnTo>
                    <a:pt x="304" y="382"/>
                  </a:lnTo>
                  <a:lnTo>
                    <a:pt x="407" y="457"/>
                  </a:lnTo>
                  <a:lnTo>
                    <a:pt x="413" y="495"/>
                  </a:lnTo>
                  <a:lnTo>
                    <a:pt x="60" y="495"/>
                  </a:lnTo>
                  <a:lnTo>
                    <a:pt x="60" y="352"/>
                  </a:lnTo>
                  <a:lnTo>
                    <a:pt x="30" y="316"/>
                  </a:lnTo>
                  <a:lnTo>
                    <a:pt x="50" y="294"/>
                  </a:lnTo>
                  <a:lnTo>
                    <a:pt x="50" y="263"/>
                  </a:lnTo>
                  <a:lnTo>
                    <a:pt x="3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4160" y="2414520"/>
              <a:ext cx="736920" cy="743040"/>
            </a:xfrm>
            <a:custGeom>
              <a:avLst/>
              <a:gdLst/>
              <a:ahLst/>
              <a:rect l="l" t="t" r="r" b="b"/>
              <a:pathLst>
                <a:path w="393" h="403">
                  <a:moveTo>
                    <a:pt x="25" y="30"/>
                  </a:moveTo>
                  <a:lnTo>
                    <a:pt x="125" y="0"/>
                  </a:lnTo>
                  <a:lnTo>
                    <a:pt x="145" y="38"/>
                  </a:lnTo>
                  <a:lnTo>
                    <a:pt x="280" y="105"/>
                  </a:lnTo>
                  <a:lnTo>
                    <a:pt x="311" y="143"/>
                  </a:lnTo>
                  <a:lnTo>
                    <a:pt x="321" y="180"/>
                  </a:lnTo>
                  <a:lnTo>
                    <a:pt x="373" y="171"/>
                  </a:lnTo>
                  <a:lnTo>
                    <a:pt x="393" y="188"/>
                  </a:lnTo>
                  <a:lnTo>
                    <a:pt x="349" y="252"/>
                  </a:lnTo>
                  <a:lnTo>
                    <a:pt x="327" y="403"/>
                  </a:lnTo>
                  <a:lnTo>
                    <a:pt x="153" y="403"/>
                  </a:lnTo>
                  <a:lnTo>
                    <a:pt x="119" y="375"/>
                  </a:lnTo>
                  <a:lnTo>
                    <a:pt x="121" y="339"/>
                  </a:lnTo>
                  <a:lnTo>
                    <a:pt x="107" y="306"/>
                  </a:lnTo>
                  <a:lnTo>
                    <a:pt x="103" y="272"/>
                  </a:lnTo>
                  <a:lnTo>
                    <a:pt x="0" y="198"/>
                  </a:lnTo>
                  <a:lnTo>
                    <a:pt x="0" y="123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2720" y="2338200"/>
              <a:ext cx="850680" cy="405000"/>
            </a:xfrm>
            <a:custGeom>
              <a:avLst/>
              <a:gdLst/>
              <a:ahLst/>
              <a:rect l="l" t="t" r="r" b="b"/>
              <a:pathLst>
                <a:path w="454" h="220">
                  <a:moveTo>
                    <a:pt x="0" y="76"/>
                  </a:moveTo>
                  <a:lnTo>
                    <a:pt x="141" y="151"/>
                  </a:lnTo>
                  <a:lnTo>
                    <a:pt x="168" y="187"/>
                  </a:lnTo>
                  <a:lnTo>
                    <a:pt x="178" y="220"/>
                  </a:lnTo>
                  <a:lnTo>
                    <a:pt x="256" y="143"/>
                  </a:lnTo>
                  <a:lnTo>
                    <a:pt x="454" y="113"/>
                  </a:lnTo>
                  <a:lnTo>
                    <a:pt x="367" y="58"/>
                  </a:lnTo>
                  <a:lnTo>
                    <a:pt x="250" y="109"/>
                  </a:lnTo>
                  <a:lnTo>
                    <a:pt x="139" y="64"/>
                  </a:lnTo>
                  <a:lnTo>
                    <a:pt x="204" y="10"/>
                  </a:lnTo>
                  <a:lnTo>
                    <a:pt x="147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09800" y="2644560"/>
              <a:ext cx="552600" cy="630360"/>
            </a:xfrm>
            <a:custGeom>
              <a:avLst/>
              <a:gdLst/>
              <a:ahLst/>
              <a:rect l="l" t="t" r="r" b="b"/>
              <a:pathLst>
                <a:path w="295" h="342">
                  <a:moveTo>
                    <a:pt x="141" y="0"/>
                  </a:moveTo>
                  <a:lnTo>
                    <a:pt x="235" y="28"/>
                  </a:lnTo>
                  <a:lnTo>
                    <a:pt x="255" y="95"/>
                  </a:lnTo>
                  <a:lnTo>
                    <a:pt x="200" y="151"/>
                  </a:lnTo>
                  <a:lnTo>
                    <a:pt x="214" y="177"/>
                  </a:lnTo>
                  <a:lnTo>
                    <a:pt x="267" y="147"/>
                  </a:lnTo>
                  <a:lnTo>
                    <a:pt x="289" y="153"/>
                  </a:lnTo>
                  <a:lnTo>
                    <a:pt x="295" y="246"/>
                  </a:lnTo>
                  <a:lnTo>
                    <a:pt x="237" y="323"/>
                  </a:lnTo>
                  <a:lnTo>
                    <a:pt x="237" y="342"/>
                  </a:lnTo>
                  <a:lnTo>
                    <a:pt x="0" y="342"/>
                  </a:lnTo>
                  <a:lnTo>
                    <a:pt x="34" y="246"/>
                  </a:lnTo>
                  <a:lnTo>
                    <a:pt x="16" y="171"/>
                  </a:lnTo>
                  <a:lnTo>
                    <a:pt x="47" y="9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7960" y="3157560"/>
              <a:ext cx="502920" cy="841320"/>
            </a:xfrm>
            <a:custGeom>
              <a:avLst/>
              <a:gdLst/>
              <a:ahLst/>
              <a:rect l="l" t="t" r="r" b="b"/>
              <a:pathLst>
                <a:path w="268" h="457">
                  <a:moveTo>
                    <a:pt x="68" y="0"/>
                  </a:moveTo>
                  <a:lnTo>
                    <a:pt x="244" y="0"/>
                  </a:lnTo>
                  <a:lnTo>
                    <a:pt x="266" y="68"/>
                  </a:lnTo>
                  <a:lnTo>
                    <a:pt x="266" y="303"/>
                  </a:lnTo>
                  <a:lnTo>
                    <a:pt x="268" y="324"/>
                  </a:lnTo>
                  <a:lnTo>
                    <a:pt x="234" y="364"/>
                  </a:lnTo>
                  <a:lnTo>
                    <a:pt x="226" y="412"/>
                  </a:lnTo>
                  <a:lnTo>
                    <a:pt x="161" y="457"/>
                  </a:lnTo>
                  <a:lnTo>
                    <a:pt x="131" y="447"/>
                  </a:lnTo>
                  <a:lnTo>
                    <a:pt x="64" y="350"/>
                  </a:lnTo>
                  <a:lnTo>
                    <a:pt x="83" y="320"/>
                  </a:lnTo>
                  <a:lnTo>
                    <a:pt x="56" y="301"/>
                  </a:lnTo>
                  <a:lnTo>
                    <a:pt x="0" y="209"/>
                  </a:lnTo>
                  <a:lnTo>
                    <a:pt x="4" y="152"/>
                  </a:lnTo>
                  <a:lnTo>
                    <a:pt x="44" y="106"/>
                  </a:lnTo>
                  <a:lnTo>
                    <a:pt x="34" y="80"/>
                  </a:lnTo>
                  <a:lnTo>
                    <a:pt x="85" y="4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7440" y="3440160"/>
              <a:ext cx="861840" cy="734760"/>
            </a:xfrm>
            <a:custGeom>
              <a:avLst/>
              <a:gdLst/>
              <a:ahLst/>
              <a:rect l="l" t="t" r="r" b="b"/>
              <a:pathLst>
                <a:path w="461" h="399">
                  <a:moveTo>
                    <a:pt x="0" y="0"/>
                  </a:moveTo>
                  <a:lnTo>
                    <a:pt x="304" y="0"/>
                  </a:lnTo>
                  <a:lnTo>
                    <a:pt x="300" y="53"/>
                  </a:lnTo>
                  <a:lnTo>
                    <a:pt x="356" y="149"/>
                  </a:lnTo>
                  <a:lnTo>
                    <a:pt x="383" y="166"/>
                  </a:lnTo>
                  <a:lnTo>
                    <a:pt x="366" y="194"/>
                  </a:lnTo>
                  <a:lnTo>
                    <a:pt x="431" y="293"/>
                  </a:lnTo>
                  <a:lnTo>
                    <a:pt x="461" y="303"/>
                  </a:lnTo>
                  <a:lnTo>
                    <a:pt x="421" y="399"/>
                  </a:lnTo>
                  <a:lnTo>
                    <a:pt x="381" y="399"/>
                  </a:lnTo>
                  <a:lnTo>
                    <a:pt x="393" y="357"/>
                  </a:lnTo>
                  <a:lnTo>
                    <a:pt x="87" y="357"/>
                  </a:lnTo>
                  <a:lnTo>
                    <a:pt x="72" y="313"/>
                  </a:lnTo>
                  <a:lnTo>
                    <a:pt x="72" y="127"/>
                  </a:lnTo>
                  <a:lnTo>
                    <a:pt x="40" y="97"/>
                  </a:lnTo>
                  <a:lnTo>
                    <a:pt x="6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41680" y="3271680"/>
              <a:ext cx="406440" cy="650880"/>
            </a:xfrm>
            <a:custGeom>
              <a:avLst/>
              <a:gdLst/>
              <a:ahLst/>
              <a:rect l="l" t="t" r="r" b="b"/>
              <a:pathLst>
                <a:path w="217" h="354">
                  <a:moveTo>
                    <a:pt x="40" y="0"/>
                  </a:moveTo>
                  <a:lnTo>
                    <a:pt x="58" y="12"/>
                  </a:lnTo>
                  <a:lnTo>
                    <a:pt x="88" y="2"/>
                  </a:lnTo>
                  <a:lnTo>
                    <a:pt x="217" y="2"/>
                  </a:lnTo>
                  <a:lnTo>
                    <a:pt x="217" y="213"/>
                  </a:lnTo>
                  <a:lnTo>
                    <a:pt x="137" y="322"/>
                  </a:lnTo>
                  <a:lnTo>
                    <a:pt x="0" y="354"/>
                  </a:lnTo>
                  <a:lnTo>
                    <a:pt x="10" y="302"/>
                  </a:lnTo>
                  <a:lnTo>
                    <a:pt x="40" y="26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9560" y="3233520"/>
              <a:ext cx="560520" cy="559080"/>
            </a:xfrm>
            <a:custGeom>
              <a:avLst/>
              <a:gdLst/>
              <a:ahLst/>
              <a:rect l="l" t="t" r="r" b="b"/>
              <a:pathLst>
                <a:path w="299" h="303">
                  <a:moveTo>
                    <a:pt x="0" y="21"/>
                  </a:moveTo>
                  <a:lnTo>
                    <a:pt x="112" y="21"/>
                  </a:lnTo>
                  <a:lnTo>
                    <a:pt x="154" y="41"/>
                  </a:lnTo>
                  <a:lnTo>
                    <a:pt x="217" y="41"/>
                  </a:lnTo>
                  <a:lnTo>
                    <a:pt x="299" y="0"/>
                  </a:lnTo>
                  <a:lnTo>
                    <a:pt x="299" y="132"/>
                  </a:lnTo>
                  <a:lnTo>
                    <a:pt x="287" y="138"/>
                  </a:lnTo>
                  <a:lnTo>
                    <a:pt x="247" y="218"/>
                  </a:lnTo>
                  <a:lnTo>
                    <a:pt x="225" y="218"/>
                  </a:lnTo>
                  <a:lnTo>
                    <a:pt x="152" y="303"/>
                  </a:lnTo>
                  <a:lnTo>
                    <a:pt x="128" y="281"/>
                  </a:lnTo>
                  <a:lnTo>
                    <a:pt x="91" y="291"/>
                  </a:lnTo>
                  <a:lnTo>
                    <a:pt x="0" y="2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55440" y="2076480"/>
              <a:ext cx="1498680" cy="785520"/>
            </a:xfrm>
            <a:custGeom>
              <a:avLst/>
              <a:gdLst/>
              <a:ahLst/>
              <a:rect l="l" t="t" r="r" b="b"/>
              <a:pathLst>
                <a:path w="800" h="413">
                  <a:moveTo>
                    <a:pt x="2" y="0"/>
                  </a:moveTo>
                  <a:lnTo>
                    <a:pt x="800" y="0"/>
                  </a:lnTo>
                  <a:lnTo>
                    <a:pt x="800" y="358"/>
                  </a:lnTo>
                  <a:lnTo>
                    <a:pt x="329" y="358"/>
                  </a:lnTo>
                  <a:lnTo>
                    <a:pt x="329" y="380"/>
                  </a:lnTo>
                  <a:lnTo>
                    <a:pt x="216" y="413"/>
                  </a:lnTo>
                  <a:lnTo>
                    <a:pt x="149" y="298"/>
                  </a:lnTo>
                  <a:lnTo>
                    <a:pt x="109" y="314"/>
                  </a:lnTo>
                  <a:lnTo>
                    <a:pt x="99" y="292"/>
                  </a:lnTo>
                  <a:lnTo>
                    <a:pt x="123" y="231"/>
                  </a:lnTo>
                  <a:lnTo>
                    <a:pt x="0" y="10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25320" y="2752560"/>
              <a:ext cx="933480" cy="685800"/>
            </a:xfrm>
            <a:prstGeom prst="rect">
              <a:avLst/>
            </a:prstGeom>
            <a:solidFill>
              <a:srgbClr val="00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49440" y="2079360"/>
              <a:ext cx="931680" cy="530280"/>
            </a:xfrm>
            <a:custGeom>
              <a:avLst/>
              <a:gdLst/>
              <a:ahLst/>
              <a:rect l="l" t="t" r="r" b="b"/>
              <a:pathLst>
                <a:path w="498" h="265">
                  <a:moveTo>
                    <a:pt x="0" y="0"/>
                  </a:moveTo>
                  <a:lnTo>
                    <a:pt x="448" y="0"/>
                  </a:lnTo>
                  <a:lnTo>
                    <a:pt x="490" y="199"/>
                  </a:lnTo>
                  <a:lnTo>
                    <a:pt x="498" y="265"/>
                  </a:lnTo>
                  <a:lnTo>
                    <a:pt x="2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0880" y="3076560"/>
              <a:ext cx="1092240" cy="484200"/>
            </a:xfrm>
            <a:custGeom>
              <a:avLst/>
              <a:gdLst/>
              <a:ahLst/>
              <a:rect l="l" t="t" r="r" b="b"/>
              <a:pathLst>
                <a:path w="583" h="263">
                  <a:moveTo>
                    <a:pt x="0" y="0"/>
                  </a:moveTo>
                  <a:lnTo>
                    <a:pt x="364" y="0"/>
                  </a:lnTo>
                  <a:lnTo>
                    <a:pt x="402" y="20"/>
                  </a:lnTo>
                  <a:lnTo>
                    <a:pt x="485" y="47"/>
                  </a:lnTo>
                  <a:lnTo>
                    <a:pt x="539" y="211"/>
                  </a:lnTo>
                  <a:lnTo>
                    <a:pt x="583" y="263"/>
                  </a:lnTo>
                  <a:lnTo>
                    <a:pt x="125" y="263"/>
                  </a:lnTo>
                  <a:lnTo>
                    <a:pt x="125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0240" y="3384360"/>
              <a:ext cx="863640" cy="6098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33960" y="3484440"/>
              <a:ext cx="668160" cy="496800"/>
            </a:xfrm>
            <a:custGeom>
              <a:avLst/>
              <a:gdLst/>
              <a:ahLst/>
              <a:rect l="l" t="t" r="r" b="b"/>
              <a:pathLst>
                <a:path w="357" h="270">
                  <a:moveTo>
                    <a:pt x="147" y="0"/>
                  </a:moveTo>
                  <a:lnTo>
                    <a:pt x="137" y="0"/>
                  </a:lnTo>
                  <a:lnTo>
                    <a:pt x="95" y="82"/>
                  </a:lnTo>
                  <a:lnTo>
                    <a:pt x="71" y="82"/>
                  </a:lnTo>
                  <a:lnTo>
                    <a:pt x="0" y="165"/>
                  </a:lnTo>
                  <a:lnTo>
                    <a:pt x="31" y="252"/>
                  </a:lnTo>
                  <a:lnTo>
                    <a:pt x="141" y="270"/>
                  </a:lnTo>
                  <a:lnTo>
                    <a:pt x="170" y="248"/>
                  </a:lnTo>
                  <a:lnTo>
                    <a:pt x="202" y="185"/>
                  </a:lnTo>
                  <a:lnTo>
                    <a:pt x="210" y="179"/>
                  </a:lnTo>
                  <a:lnTo>
                    <a:pt x="357" y="127"/>
                  </a:lnTo>
                  <a:lnTo>
                    <a:pt x="347" y="103"/>
                  </a:lnTo>
                  <a:lnTo>
                    <a:pt x="290" y="84"/>
                  </a:lnTo>
                  <a:lnTo>
                    <a:pt x="208" y="127"/>
                  </a:lnTo>
                  <a:lnTo>
                    <a:pt x="208" y="52"/>
                  </a:lnTo>
                  <a:lnTo>
                    <a:pt x="147" y="5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17960" y="3717720"/>
              <a:ext cx="1069920" cy="376200"/>
            </a:xfrm>
            <a:custGeom>
              <a:avLst/>
              <a:gdLst/>
              <a:ahLst/>
              <a:rect l="l" t="t" r="r" b="b"/>
              <a:pathLst>
                <a:path w="571" h="204">
                  <a:moveTo>
                    <a:pt x="0" y="203"/>
                  </a:moveTo>
                  <a:lnTo>
                    <a:pt x="18" y="184"/>
                  </a:lnTo>
                  <a:lnTo>
                    <a:pt x="146" y="125"/>
                  </a:lnTo>
                  <a:lnTo>
                    <a:pt x="257" y="143"/>
                  </a:lnTo>
                  <a:lnTo>
                    <a:pt x="287" y="121"/>
                  </a:lnTo>
                  <a:lnTo>
                    <a:pt x="322" y="53"/>
                  </a:lnTo>
                  <a:lnTo>
                    <a:pt x="473" y="0"/>
                  </a:lnTo>
                  <a:lnTo>
                    <a:pt x="499" y="91"/>
                  </a:lnTo>
                  <a:lnTo>
                    <a:pt x="571" y="109"/>
                  </a:lnTo>
                  <a:lnTo>
                    <a:pt x="535" y="152"/>
                  </a:lnTo>
                  <a:lnTo>
                    <a:pt x="559" y="204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67080" y="3636720"/>
              <a:ext cx="920880" cy="490680"/>
            </a:xfrm>
            <a:custGeom>
              <a:avLst/>
              <a:gdLst/>
              <a:ahLst/>
              <a:rect l="l" t="t" r="r" b="b"/>
              <a:pathLst>
                <a:path w="492" h="266">
                  <a:moveTo>
                    <a:pt x="0" y="266"/>
                  </a:moveTo>
                  <a:lnTo>
                    <a:pt x="28" y="196"/>
                  </a:lnTo>
                  <a:lnTo>
                    <a:pt x="93" y="153"/>
                  </a:lnTo>
                  <a:lnTo>
                    <a:pt x="228" y="125"/>
                  </a:lnTo>
                  <a:lnTo>
                    <a:pt x="310" y="18"/>
                  </a:lnTo>
                  <a:lnTo>
                    <a:pt x="310" y="0"/>
                  </a:lnTo>
                  <a:lnTo>
                    <a:pt x="401" y="73"/>
                  </a:lnTo>
                  <a:lnTo>
                    <a:pt x="438" y="61"/>
                  </a:lnTo>
                  <a:lnTo>
                    <a:pt x="460" y="83"/>
                  </a:lnTo>
                  <a:lnTo>
                    <a:pt x="492" y="169"/>
                  </a:lnTo>
                  <a:lnTo>
                    <a:pt x="366" y="228"/>
                  </a:lnTo>
                  <a:lnTo>
                    <a:pt x="348" y="248"/>
                  </a:lnTo>
                  <a:lnTo>
                    <a:pt x="103" y="248"/>
                  </a:lnTo>
                  <a:lnTo>
                    <a:pt x="103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19440" y="4097160"/>
              <a:ext cx="635040" cy="557280"/>
            </a:xfrm>
            <a:custGeom>
              <a:avLst/>
              <a:gdLst/>
              <a:ahLst/>
              <a:rect l="l" t="t" r="r" b="b"/>
              <a:pathLst>
                <a:path w="339" h="303">
                  <a:moveTo>
                    <a:pt x="0" y="0"/>
                  </a:moveTo>
                  <a:lnTo>
                    <a:pt x="306" y="0"/>
                  </a:lnTo>
                  <a:lnTo>
                    <a:pt x="294" y="40"/>
                  </a:lnTo>
                  <a:lnTo>
                    <a:pt x="339" y="42"/>
                  </a:lnTo>
                  <a:lnTo>
                    <a:pt x="296" y="147"/>
                  </a:lnTo>
                  <a:lnTo>
                    <a:pt x="252" y="203"/>
                  </a:lnTo>
                  <a:lnTo>
                    <a:pt x="222" y="303"/>
                  </a:lnTo>
                  <a:lnTo>
                    <a:pt x="45" y="303"/>
                  </a:lnTo>
                  <a:lnTo>
                    <a:pt x="45" y="257"/>
                  </a:lnTo>
                  <a:lnTo>
                    <a:pt x="12" y="249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6720" y="4093920"/>
              <a:ext cx="1077840" cy="270000"/>
            </a:xfrm>
            <a:custGeom>
              <a:avLst/>
              <a:gdLst/>
              <a:ahLst/>
              <a:rect l="l" t="t" r="r" b="b"/>
              <a:pathLst>
                <a:path w="575" h="147">
                  <a:moveTo>
                    <a:pt x="51" y="16"/>
                  </a:moveTo>
                  <a:lnTo>
                    <a:pt x="151" y="16"/>
                  </a:lnTo>
                  <a:lnTo>
                    <a:pt x="151" y="0"/>
                  </a:lnTo>
                  <a:lnTo>
                    <a:pt x="575" y="0"/>
                  </a:lnTo>
                  <a:lnTo>
                    <a:pt x="567" y="32"/>
                  </a:lnTo>
                  <a:lnTo>
                    <a:pt x="397" y="105"/>
                  </a:lnTo>
                  <a:lnTo>
                    <a:pt x="381" y="147"/>
                  </a:lnTo>
                  <a:lnTo>
                    <a:pt x="0" y="147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30640" y="4303800"/>
              <a:ext cx="612720" cy="520560"/>
            </a:xfrm>
            <a:custGeom>
              <a:avLst/>
              <a:gdLst/>
              <a:ahLst/>
              <a:rect l="l" t="t" r="r" b="b"/>
              <a:pathLst>
                <a:path w="327" h="283">
                  <a:moveTo>
                    <a:pt x="13" y="34"/>
                  </a:moveTo>
                  <a:lnTo>
                    <a:pt x="47" y="0"/>
                  </a:lnTo>
                  <a:lnTo>
                    <a:pt x="147" y="0"/>
                  </a:lnTo>
                  <a:lnTo>
                    <a:pt x="158" y="20"/>
                  </a:lnTo>
                  <a:lnTo>
                    <a:pt x="234" y="20"/>
                  </a:lnTo>
                  <a:lnTo>
                    <a:pt x="327" y="121"/>
                  </a:lnTo>
                  <a:lnTo>
                    <a:pt x="242" y="210"/>
                  </a:lnTo>
                  <a:lnTo>
                    <a:pt x="178" y="232"/>
                  </a:lnTo>
                  <a:lnTo>
                    <a:pt x="170" y="283"/>
                  </a:lnTo>
                  <a:lnTo>
                    <a:pt x="137" y="224"/>
                  </a:lnTo>
                  <a:lnTo>
                    <a:pt x="0" y="62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7760" y="4365360"/>
              <a:ext cx="591840" cy="654120"/>
            </a:xfrm>
            <a:custGeom>
              <a:avLst/>
              <a:gdLst/>
              <a:ahLst/>
              <a:rect l="l" t="t" r="r" b="b"/>
              <a:pathLst>
                <a:path w="316" h="355">
                  <a:moveTo>
                    <a:pt x="0" y="0"/>
                  </a:moveTo>
                  <a:lnTo>
                    <a:pt x="159" y="0"/>
                  </a:lnTo>
                  <a:lnTo>
                    <a:pt x="146" y="28"/>
                  </a:lnTo>
                  <a:lnTo>
                    <a:pt x="283" y="190"/>
                  </a:lnTo>
                  <a:lnTo>
                    <a:pt x="316" y="249"/>
                  </a:lnTo>
                  <a:lnTo>
                    <a:pt x="275" y="355"/>
                  </a:lnTo>
                  <a:lnTo>
                    <a:pt x="57" y="355"/>
                  </a:lnTo>
                  <a:lnTo>
                    <a:pt x="35" y="311"/>
                  </a:lnTo>
                  <a:lnTo>
                    <a:pt x="23" y="255"/>
                  </a:lnTo>
                  <a:lnTo>
                    <a:pt x="45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65360" y="4363920"/>
              <a:ext cx="476280" cy="682560"/>
            </a:xfrm>
            <a:custGeom>
              <a:avLst/>
              <a:gdLst/>
              <a:ahLst/>
              <a:rect l="l" t="t" r="r" b="b"/>
              <a:pathLst>
                <a:path w="255" h="371">
                  <a:moveTo>
                    <a:pt x="52" y="0"/>
                  </a:moveTo>
                  <a:lnTo>
                    <a:pt x="212" y="0"/>
                  </a:lnTo>
                  <a:lnTo>
                    <a:pt x="255" y="227"/>
                  </a:lnTo>
                  <a:lnTo>
                    <a:pt x="234" y="257"/>
                  </a:lnTo>
                  <a:lnTo>
                    <a:pt x="244" y="310"/>
                  </a:lnTo>
                  <a:lnTo>
                    <a:pt x="66" y="310"/>
                  </a:lnTo>
                  <a:lnTo>
                    <a:pt x="63" y="362"/>
                  </a:lnTo>
                  <a:lnTo>
                    <a:pt x="0" y="371"/>
                  </a:lnTo>
                  <a:lnTo>
                    <a:pt x="2" y="26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35240" y="4363920"/>
              <a:ext cx="424080" cy="738360"/>
            </a:xfrm>
            <a:custGeom>
              <a:avLst/>
              <a:gdLst/>
              <a:ahLst/>
              <a:rect l="l" t="t" r="r" b="b"/>
              <a:pathLst>
                <a:path w="227" h="401">
                  <a:moveTo>
                    <a:pt x="76" y="0"/>
                  </a:moveTo>
                  <a:lnTo>
                    <a:pt x="227" y="0"/>
                  </a:lnTo>
                  <a:lnTo>
                    <a:pt x="178" y="267"/>
                  </a:lnTo>
                  <a:lnTo>
                    <a:pt x="176" y="371"/>
                  </a:lnTo>
                  <a:lnTo>
                    <a:pt x="129" y="401"/>
                  </a:lnTo>
                  <a:lnTo>
                    <a:pt x="105" y="332"/>
                  </a:lnTo>
                  <a:lnTo>
                    <a:pt x="0" y="332"/>
                  </a:lnTo>
                  <a:lnTo>
                    <a:pt x="33" y="217"/>
                  </a:lnTo>
                  <a:lnTo>
                    <a:pt x="1" y="157"/>
                  </a:lnTo>
                  <a:lnTo>
                    <a:pt x="31" y="6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3080" y="4937040"/>
              <a:ext cx="1023840" cy="879480"/>
            </a:xfrm>
            <a:custGeom>
              <a:avLst/>
              <a:gdLst/>
              <a:ahLst/>
              <a:rect l="l" t="t" r="r" b="b"/>
              <a:pathLst>
                <a:path w="547" h="478">
                  <a:moveTo>
                    <a:pt x="2" y="0"/>
                  </a:moveTo>
                  <a:lnTo>
                    <a:pt x="182" y="0"/>
                  </a:lnTo>
                  <a:lnTo>
                    <a:pt x="206" y="48"/>
                  </a:lnTo>
                  <a:lnTo>
                    <a:pt x="424" y="48"/>
                  </a:lnTo>
                  <a:lnTo>
                    <a:pt x="430" y="90"/>
                  </a:lnTo>
                  <a:lnTo>
                    <a:pt x="507" y="229"/>
                  </a:lnTo>
                  <a:lnTo>
                    <a:pt x="537" y="330"/>
                  </a:lnTo>
                  <a:lnTo>
                    <a:pt x="547" y="400"/>
                  </a:lnTo>
                  <a:lnTo>
                    <a:pt x="471" y="472"/>
                  </a:lnTo>
                  <a:lnTo>
                    <a:pt x="408" y="478"/>
                  </a:lnTo>
                  <a:lnTo>
                    <a:pt x="390" y="332"/>
                  </a:lnTo>
                  <a:lnTo>
                    <a:pt x="370" y="334"/>
                  </a:lnTo>
                  <a:lnTo>
                    <a:pt x="308" y="246"/>
                  </a:lnTo>
                  <a:lnTo>
                    <a:pt x="322" y="173"/>
                  </a:lnTo>
                  <a:lnTo>
                    <a:pt x="252" y="94"/>
                  </a:lnTo>
                  <a:lnTo>
                    <a:pt x="160" y="117"/>
                  </a:lnTo>
                  <a:lnTo>
                    <a:pt x="89" y="54"/>
                  </a:lnTo>
                  <a:lnTo>
                    <a:pt x="0" y="5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97200" y="4640040"/>
              <a:ext cx="625320" cy="592200"/>
            </a:xfrm>
            <a:custGeom>
              <a:avLst/>
              <a:gdLst/>
              <a:ahLst/>
              <a:rect l="l" t="t" r="r" b="b"/>
              <a:pathLst>
                <a:path w="334" h="322">
                  <a:moveTo>
                    <a:pt x="3" y="0"/>
                  </a:moveTo>
                  <a:lnTo>
                    <a:pt x="182" y="0"/>
                  </a:lnTo>
                  <a:lnTo>
                    <a:pt x="213" y="62"/>
                  </a:lnTo>
                  <a:lnTo>
                    <a:pt x="180" y="178"/>
                  </a:lnTo>
                  <a:lnTo>
                    <a:pt x="285" y="178"/>
                  </a:lnTo>
                  <a:lnTo>
                    <a:pt x="309" y="249"/>
                  </a:lnTo>
                  <a:lnTo>
                    <a:pt x="334" y="322"/>
                  </a:lnTo>
                  <a:lnTo>
                    <a:pt x="193" y="314"/>
                  </a:lnTo>
                  <a:lnTo>
                    <a:pt x="23" y="250"/>
                  </a:lnTo>
                  <a:lnTo>
                    <a:pt x="43" y="200"/>
                  </a:lnTo>
                  <a:lnTo>
                    <a:pt x="0" y="9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58880" y="3981240"/>
              <a:ext cx="1079640" cy="685800"/>
            </a:xfrm>
            <a:custGeom>
              <a:avLst/>
              <a:gdLst/>
              <a:ahLst/>
              <a:rect l="l" t="t" r="r" b="b"/>
              <a:pathLst>
                <a:path w="577" h="297">
                  <a:moveTo>
                    <a:pt x="0" y="0"/>
                  </a:moveTo>
                  <a:lnTo>
                    <a:pt x="554" y="0"/>
                  </a:lnTo>
                  <a:lnTo>
                    <a:pt x="569" y="54"/>
                  </a:lnTo>
                  <a:lnTo>
                    <a:pt x="577" y="115"/>
                  </a:lnTo>
                  <a:lnTo>
                    <a:pt x="577" y="297"/>
                  </a:lnTo>
                  <a:lnTo>
                    <a:pt x="482" y="273"/>
                  </a:lnTo>
                  <a:lnTo>
                    <a:pt x="440" y="281"/>
                  </a:lnTo>
                  <a:lnTo>
                    <a:pt x="197" y="231"/>
                  </a:lnTo>
                  <a:lnTo>
                    <a:pt x="197" y="88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85840" y="4173480"/>
              <a:ext cx="1695600" cy="1474920"/>
            </a:xfrm>
            <a:custGeom>
              <a:avLst/>
              <a:gdLst/>
              <a:ahLst/>
              <a:rect l="l" t="t" r="r" b="b"/>
              <a:pathLst>
                <a:path w="905" h="802">
                  <a:moveTo>
                    <a:pt x="252" y="0"/>
                  </a:moveTo>
                  <a:lnTo>
                    <a:pt x="449" y="0"/>
                  </a:lnTo>
                  <a:lnTo>
                    <a:pt x="449" y="143"/>
                  </a:lnTo>
                  <a:lnTo>
                    <a:pt x="692" y="194"/>
                  </a:lnTo>
                  <a:lnTo>
                    <a:pt x="732" y="188"/>
                  </a:lnTo>
                  <a:lnTo>
                    <a:pt x="829" y="211"/>
                  </a:lnTo>
                  <a:lnTo>
                    <a:pt x="863" y="217"/>
                  </a:lnTo>
                  <a:lnTo>
                    <a:pt x="861" y="360"/>
                  </a:lnTo>
                  <a:lnTo>
                    <a:pt x="905" y="460"/>
                  </a:lnTo>
                  <a:lnTo>
                    <a:pt x="879" y="509"/>
                  </a:lnTo>
                  <a:lnTo>
                    <a:pt x="798" y="529"/>
                  </a:lnTo>
                  <a:lnTo>
                    <a:pt x="672" y="632"/>
                  </a:lnTo>
                  <a:lnTo>
                    <a:pt x="641" y="714"/>
                  </a:lnTo>
                  <a:lnTo>
                    <a:pt x="657" y="802"/>
                  </a:lnTo>
                  <a:lnTo>
                    <a:pt x="495" y="743"/>
                  </a:lnTo>
                  <a:lnTo>
                    <a:pt x="389" y="567"/>
                  </a:lnTo>
                  <a:lnTo>
                    <a:pt x="306" y="541"/>
                  </a:lnTo>
                  <a:lnTo>
                    <a:pt x="260" y="589"/>
                  </a:lnTo>
                  <a:lnTo>
                    <a:pt x="195" y="551"/>
                  </a:lnTo>
                  <a:lnTo>
                    <a:pt x="135" y="442"/>
                  </a:lnTo>
                  <a:lnTo>
                    <a:pt x="0" y="329"/>
                  </a:lnTo>
                  <a:lnTo>
                    <a:pt x="252" y="329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33480" y="4006800"/>
              <a:ext cx="725400" cy="888840"/>
            </a:xfrm>
            <a:custGeom>
              <a:avLst/>
              <a:gdLst/>
              <a:ahLst/>
              <a:rect l="l" t="t" r="r" b="b"/>
              <a:pathLst>
                <a:path w="387" h="487">
                  <a:moveTo>
                    <a:pt x="0" y="0"/>
                  </a:moveTo>
                  <a:lnTo>
                    <a:pt x="387" y="0"/>
                  </a:lnTo>
                  <a:lnTo>
                    <a:pt x="387" y="420"/>
                  </a:lnTo>
                  <a:lnTo>
                    <a:pt x="135" y="420"/>
                  </a:lnTo>
                  <a:lnTo>
                    <a:pt x="64" y="420"/>
                  </a:lnTo>
                  <a:lnTo>
                    <a:pt x="64" y="487"/>
                  </a:lnTo>
                  <a:lnTo>
                    <a:pt x="0" y="4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760" y="3233520"/>
              <a:ext cx="631800" cy="784440"/>
            </a:xfrm>
            <a:custGeom>
              <a:avLst/>
              <a:gdLst/>
              <a:ahLst/>
              <a:rect l="l" t="t" r="r" b="b"/>
              <a:pathLst>
                <a:path w="332" h="426">
                  <a:moveTo>
                    <a:pt x="195" y="81"/>
                  </a:moveTo>
                  <a:lnTo>
                    <a:pt x="332" y="81"/>
                  </a:lnTo>
                  <a:lnTo>
                    <a:pt x="332" y="426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195" y="0"/>
                  </a:lnTo>
                  <a:lnTo>
                    <a:pt x="195" y="8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5080" y="2076480"/>
              <a:ext cx="896760" cy="547560"/>
            </a:xfrm>
            <a:custGeom>
              <a:avLst/>
              <a:gdLst/>
              <a:ahLst/>
              <a:rect l="l" t="t" r="r" b="b"/>
              <a:pathLst>
                <a:path w="479" h="298">
                  <a:moveTo>
                    <a:pt x="107" y="0"/>
                  </a:moveTo>
                  <a:lnTo>
                    <a:pt x="125" y="88"/>
                  </a:lnTo>
                  <a:lnTo>
                    <a:pt x="115" y="108"/>
                  </a:lnTo>
                  <a:lnTo>
                    <a:pt x="0" y="90"/>
                  </a:lnTo>
                  <a:lnTo>
                    <a:pt x="36" y="247"/>
                  </a:lnTo>
                  <a:lnTo>
                    <a:pt x="90" y="251"/>
                  </a:lnTo>
                  <a:lnTo>
                    <a:pt x="101" y="298"/>
                  </a:lnTo>
                  <a:lnTo>
                    <a:pt x="320" y="255"/>
                  </a:lnTo>
                  <a:lnTo>
                    <a:pt x="479" y="255"/>
                  </a:lnTo>
                  <a:lnTo>
                    <a:pt x="479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9760" y="2530440"/>
              <a:ext cx="936720" cy="701640"/>
            </a:xfrm>
            <a:custGeom>
              <a:avLst/>
              <a:gdLst/>
              <a:ahLst/>
              <a:rect l="l" t="t" r="r" b="b"/>
              <a:pathLst>
                <a:path w="501" h="381">
                  <a:moveTo>
                    <a:pt x="32" y="0"/>
                  </a:moveTo>
                  <a:lnTo>
                    <a:pt x="88" y="2"/>
                  </a:lnTo>
                  <a:lnTo>
                    <a:pt x="101" y="51"/>
                  </a:lnTo>
                  <a:lnTo>
                    <a:pt x="314" y="8"/>
                  </a:lnTo>
                  <a:lnTo>
                    <a:pt x="477" y="8"/>
                  </a:lnTo>
                  <a:lnTo>
                    <a:pt x="501" y="47"/>
                  </a:lnTo>
                  <a:lnTo>
                    <a:pt x="467" y="190"/>
                  </a:lnTo>
                  <a:lnTo>
                    <a:pt x="489" y="196"/>
                  </a:lnTo>
                  <a:lnTo>
                    <a:pt x="489" y="381"/>
                  </a:lnTo>
                  <a:lnTo>
                    <a:pt x="14" y="381"/>
                  </a:lnTo>
                  <a:lnTo>
                    <a:pt x="0" y="29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26920" y="2076480"/>
              <a:ext cx="766800" cy="1181160"/>
            </a:xfrm>
            <a:custGeom>
              <a:avLst/>
              <a:gdLst/>
              <a:ahLst/>
              <a:rect l="l" t="t" r="r" b="b"/>
              <a:pathLst>
                <a:path w="410" h="628">
                  <a:moveTo>
                    <a:pt x="12" y="0"/>
                  </a:moveTo>
                  <a:lnTo>
                    <a:pt x="84" y="0"/>
                  </a:lnTo>
                  <a:lnTo>
                    <a:pt x="84" y="104"/>
                  </a:lnTo>
                  <a:lnTo>
                    <a:pt x="205" y="233"/>
                  </a:lnTo>
                  <a:lnTo>
                    <a:pt x="180" y="290"/>
                  </a:lnTo>
                  <a:lnTo>
                    <a:pt x="190" y="316"/>
                  </a:lnTo>
                  <a:lnTo>
                    <a:pt x="235" y="300"/>
                  </a:lnTo>
                  <a:lnTo>
                    <a:pt x="299" y="413"/>
                  </a:lnTo>
                  <a:lnTo>
                    <a:pt x="410" y="380"/>
                  </a:lnTo>
                  <a:lnTo>
                    <a:pt x="410" y="628"/>
                  </a:lnTo>
                  <a:lnTo>
                    <a:pt x="211" y="628"/>
                  </a:lnTo>
                  <a:lnTo>
                    <a:pt x="24" y="628"/>
                  </a:lnTo>
                  <a:lnTo>
                    <a:pt x="24" y="443"/>
                  </a:lnTo>
                  <a:lnTo>
                    <a:pt x="0" y="439"/>
                  </a:lnTo>
                  <a:lnTo>
                    <a:pt x="36" y="296"/>
                  </a:lnTo>
                  <a:lnTo>
                    <a:pt x="12" y="25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5000" y="3233520"/>
              <a:ext cx="725760" cy="1146240"/>
            </a:xfrm>
            <a:custGeom>
              <a:avLst/>
              <a:gdLst/>
              <a:ahLst/>
              <a:rect l="l" t="t" r="r" b="b"/>
              <a:pathLst>
                <a:path w="386" h="623">
                  <a:moveTo>
                    <a:pt x="0" y="0"/>
                  </a:moveTo>
                  <a:lnTo>
                    <a:pt x="386" y="0"/>
                  </a:lnTo>
                  <a:lnTo>
                    <a:pt x="386" y="424"/>
                  </a:lnTo>
                  <a:lnTo>
                    <a:pt x="386" y="519"/>
                  </a:lnTo>
                  <a:lnTo>
                    <a:pt x="343" y="509"/>
                  </a:lnTo>
                  <a:lnTo>
                    <a:pt x="363" y="623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26800" y="4017960"/>
              <a:ext cx="706680" cy="888840"/>
            </a:xfrm>
            <a:custGeom>
              <a:avLst/>
              <a:gdLst/>
              <a:ahLst/>
              <a:rect l="l" t="t" r="r" b="b"/>
              <a:pathLst>
                <a:path w="377" h="483">
                  <a:moveTo>
                    <a:pt x="41" y="0"/>
                  </a:moveTo>
                  <a:lnTo>
                    <a:pt x="377" y="0"/>
                  </a:lnTo>
                  <a:lnTo>
                    <a:pt x="377" y="483"/>
                  </a:lnTo>
                  <a:lnTo>
                    <a:pt x="260" y="483"/>
                  </a:lnTo>
                  <a:lnTo>
                    <a:pt x="37" y="376"/>
                  </a:lnTo>
                  <a:lnTo>
                    <a:pt x="37" y="342"/>
                  </a:lnTo>
                  <a:lnTo>
                    <a:pt x="51" y="239"/>
                  </a:lnTo>
                  <a:lnTo>
                    <a:pt x="16" y="191"/>
                  </a:lnTo>
                  <a:lnTo>
                    <a:pt x="0" y="83"/>
                  </a:lnTo>
                  <a:lnTo>
                    <a:pt x="41" y="9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3230640"/>
              <a:ext cx="1298520" cy="1420560"/>
            </a:xfrm>
            <a:custGeom>
              <a:avLst/>
              <a:gdLst/>
              <a:ahLst/>
              <a:rect l="l" t="t" r="r" b="b"/>
              <a:pathLst>
                <a:path w="693" h="772">
                  <a:moveTo>
                    <a:pt x="16" y="0"/>
                  </a:moveTo>
                  <a:lnTo>
                    <a:pt x="298" y="0"/>
                  </a:lnTo>
                  <a:lnTo>
                    <a:pt x="298" y="263"/>
                  </a:lnTo>
                  <a:lnTo>
                    <a:pt x="661" y="625"/>
                  </a:lnTo>
                  <a:lnTo>
                    <a:pt x="693" y="667"/>
                  </a:lnTo>
                  <a:lnTo>
                    <a:pt x="677" y="772"/>
                  </a:lnTo>
                  <a:lnTo>
                    <a:pt x="495" y="772"/>
                  </a:lnTo>
                  <a:lnTo>
                    <a:pt x="334" y="642"/>
                  </a:lnTo>
                  <a:lnTo>
                    <a:pt x="277" y="642"/>
                  </a:lnTo>
                  <a:lnTo>
                    <a:pt x="140" y="400"/>
                  </a:lnTo>
                  <a:lnTo>
                    <a:pt x="44" y="251"/>
                  </a:lnTo>
                  <a:lnTo>
                    <a:pt x="56" y="194"/>
                  </a:lnTo>
                  <a:lnTo>
                    <a:pt x="0" y="1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02040" y="4362480"/>
              <a:ext cx="177840" cy="339480"/>
            </a:xfrm>
            <a:custGeom>
              <a:avLst/>
              <a:gdLst/>
              <a:ahLst/>
              <a:rect l="l" t="t" r="r" b="b"/>
              <a:pathLst>
                <a:path w="95" h="184">
                  <a:moveTo>
                    <a:pt x="0" y="28"/>
                  </a:moveTo>
                  <a:lnTo>
                    <a:pt x="95" y="0"/>
                  </a:lnTo>
                  <a:lnTo>
                    <a:pt x="95" y="154"/>
                  </a:lnTo>
                  <a:lnTo>
                    <a:pt x="0" y="18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24280" y="4438440"/>
              <a:ext cx="73080" cy="397080"/>
            </a:xfrm>
            <a:custGeom>
              <a:avLst/>
              <a:gdLst/>
              <a:ahLst/>
              <a:rect l="l" t="t" r="r" b="b"/>
              <a:pathLst>
                <a:path w="38" h="215">
                  <a:moveTo>
                    <a:pt x="0" y="63"/>
                  </a:moveTo>
                  <a:lnTo>
                    <a:pt x="0" y="215"/>
                  </a:lnTo>
                  <a:lnTo>
                    <a:pt x="38" y="152"/>
                  </a:lnTo>
                  <a:lnTo>
                    <a:pt x="38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787640" y="4057560"/>
              <a:ext cx="838080" cy="1752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315200" y="4896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enn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45147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tewar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15200" y="413388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rag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3320" y="60674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Ho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16560" y="169056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herid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390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Lewi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0600" y="5381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Huachuc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15200" y="5276880"/>
            <a:ext cx="13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McPh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15200" y="61149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Eglin AFB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60880" y="550080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Ruck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53280" y="2228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D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5657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lis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6577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Gord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2762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D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53280" y="3409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elvo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368928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G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2381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entag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43680" y="6145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Campbel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62920" y="2152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N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697040"/>
            <a:ext cx="53316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19320"/>
            <a:ext cx="14479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514600" y="4819680"/>
            <a:ext cx="9907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809880" y="4819680"/>
            <a:ext cx="15264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790960" y="4057560"/>
            <a:ext cx="610920" cy="20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333760" y="4971960"/>
            <a:ext cx="88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324480" y="5505120"/>
            <a:ext cx="990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6171840" y="4971600"/>
            <a:ext cx="11430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171840" y="4971960"/>
            <a:ext cx="1143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146280" y="4667400"/>
            <a:ext cx="12193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6095520" y="4819320"/>
            <a:ext cx="12193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781680" y="428616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705720" y="3841920"/>
            <a:ext cx="1434960" cy="13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05720" y="3587760"/>
            <a:ext cx="1409760" cy="165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705360" y="2914560"/>
            <a:ext cx="144756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705360" y="2685960"/>
            <a:ext cx="7596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009920" y="245736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68800" y="2068560"/>
            <a:ext cx="341280" cy="130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705360" y="2457360"/>
            <a:ext cx="68580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76240" y="3695760"/>
            <a:ext cx="2276640" cy="100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1080" y="4667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eterson AF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6895800" y="4019400"/>
            <a:ext cx="546120" cy="1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-24840" bIns="-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80440" y="387972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Eust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8728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123800" y="4792680"/>
            <a:ext cx="282600" cy="162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95760" y="6373800"/>
            <a:ext cx="15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am Hous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73200" y="15717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Ca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33560" y="1925640"/>
            <a:ext cx="419400" cy="170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5720" y="558468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Po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749840" y="4997520"/>
            <a:ext cx="139680" cy="55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191440" y="3143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934320" y="3321000"/>
            <a:ext cx="1231920" cy="241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934320" y="2203560"/>
            <a:ext cx="876240" cy="13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81960" y="19112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T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032080" y="4840200"/>
            <a:ext cx="205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18000" y="605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Camp Shel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823000" y="5295960"/>
            <a:ext cx="235080" cy="9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86240" y="63594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Mac Dill AF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72080" y="1425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Ohio NGB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50080" y="1789200"/>
            <a:ext cx="64800" cy="1636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371A-3976-4FEC-85E9-1CC835ED99C2}" type="slidenum">
              <a:t>15</a:t>
            </a:fld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56960" y="1846080"/>
            <a:ext cx="657828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Keep the customer informed and trained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o more with technology over a sustained period of time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Marshal the right tools for the right task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Leverage emerging technology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ollaborate more effectively with producers and customer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Be more technically competent than the average user (train and certify)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rovide quick cost-effective solution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971800" cy="2611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515" name=""/>
          <p:cNvSpPr/>
          <p:nvPr/>
        </p:nvSpPr>
        <p:spPr>
          <a:xfrm>
            <a:off x="6642000" y="5105520"/>
            <a:ext cx="22100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oviding a treasure chest of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687240" y="1440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Challenge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100E-6CE9-4887-B39F-F3EB3814E58D}" type="slidenum">
              <a:t>16</a:t>
            </a:fld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560" y="287928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Back up Slide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3772-E526-4269-87D0-0CD5136CC03B}" type="slidenum">
              <a:t>17</a:t>
            </a:fld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060800" y="1343160"/>
            <a:ext cx="1378080" cy="13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174840" y="2527200"/>
            <a:ext cx="4051440" cy="863640"/>
          </a:xfrm>
          <a:custGeom>
            <a:avLst/>
            <a:gdLst/>
            <a:ahLst/>
            <a:rect l="l" t="t" r="r" b="b"/>
            <a:pathLst>
              <a:path w="2552" h="544">
                <a:moveTo>
                  <a:pt x="0" y="544"/>
                </a:moveTo>
                <a:cubicBezTo>
                  <a:pt x="1084" y="446"/>
                  <a:pt x="2168" y="348"/>
                  <a:pt x="2360" y="264"/>
                </a:cubicBezTo>
                <a:cubicBezTo>
                  <a:pt x="2552" y="180"/>
                  <a:pt x="1371" y="80"/>
                  <a:pt x="1152" y="40"/>
                </a:cubicBezTo>
                <a:cubicBezTo>
                  <a:pt x="933" y="0"/>
                  <a:pt x="1065" y="28"/>
                  <a:pt x="1048" y="2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074600" y="3197160"/>
            <a:ext cx="2803680" cy="10479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 flipV="1">
            <a:off x="1574640" y="3949200"/>
            <a:ext cx="787680" cy="1041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1760" y="3416400"/>
            <a:ext cx="501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Reduces hardware &amp; workspace requirements with multi-port Keyboard, Video, &amp; Mouse (KVM) 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8-Port KVM Switch Box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12600" y="11304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679840" y="3949560"/>
            <a:ext cx="0" cy="116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060360" y="3936960"/>
            <a:ext cx="1841400" cy="1015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857320" y="3911760"/>
            <a:ext cx="888840" cy="1041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3314880" y="3924360"/>
            <a:ext cx="2666880" cy="1054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3543120" y="3822480"/>
            <a:ext cx="355572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117440" y="4913280"/>
            <a:ext cx="914400" cy="1523880"/>
            <a:chOff x="1117440" y="4913280"/>
            <a:chExt cx="914400" cy="1523880"/>
          </a:xfrm>
        </p:grpSpPr>
        <p:grpSp>
          <p:nvGrpSpPr>
            <p:cNvPr id="532" name=""/>
            <p:cNvGrpSpPr/>
            <p:nvPr/>
          </p:nvGrpSpPr>
          <p:grpSpPr>
            <a:xfrm>
              <a:off x="1184040" y="4913280"/>
              <a:ext cx="792000" cy="1523880"/>
              <a:chOff x="1184040" y="4913280"/>
              <a:chExt cx="792000" cy="1523880"/>
            </a:xfrm>
          </p:grpSpPr>
          <p:sp>
            <p:nvSpPr>
              <p:cNvPr id="533" name=""/>
              <p:cNvSpPr/>
              <p:nvPr/>
            </p:nvSpPr>
            <p:spPr>
              <a:xfrm>
                <a:off x="1282320" y="507492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4040" y="491328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5" name=""/>
            <p:cNvSpPr/>
            <p:nvPr/>
          </p:nvSpPr>
          <p:spPr>
            <a:xfrm>
              <a:off x="1117440" y="56257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rebuchet MS"/>
                </a:rPr>
                <a:t>NIPR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22640" y="4875120"/>
            <a:ext cx="914400" cy="1523880"/>
            <a:chOff x="2222640" y="4875120"/>
            <a:chExt cx="914400" cy="1523880"/>
          </a:xfrm>
        </p:grpSpPr>
        <p:grpSp>
          <p:nvGrpSpPr>
            <p:cNvPr id="537" name=""/>
            <p:cNvGrpSpPr/>
            <p:nvPr/>
          </p:nvGrpSpPr>
          <p:grpSpPr>
            <a:xfrm>
              <a:off x="2289240" y="4875120"/>
              <a:ext cx="792000" cy="1523880"/>
              <a:chOff x="2289240" y="4875120"/>
              <a:chExt cx="792000" cy="1523880"/>
            </a:xfrm>
          </p:grpSpPr>
          <p:sp>
            <p:nvSpPr>
              <p:cNvPr id="538" name=""/>
              <p:cNvSpPr/>
              <p:nvPr/>
            </p:nvSpPr>
            <p:spPr>
              <a:xfrm>
                <a:off x="238752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924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0" name=""/>
            <p:cNvSpPr/>
            <p:nvPr/>
          </p:nvSpPr>
          <p:spPr>
            <a:xfrm>
              <a:off x="222264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Trebuchet MS"/>
                </a:rPr>
                <a:t>SIPR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21000" y="4875120"/>
            <a:ext cx="914400" cy="1523880"/>
            <a:chOff x="3321000" y="4875120"/>
            <a:chExt cx="914400" cy="1523880"/>
          </a:xfrm>
        </p:grpSpPr>
        <p:grpSp>
          <p:nvGrpSpPr>
            <p:cNvPr id="542" name=""/>
            <p:cNvGrpSpPr/>
            <p:nvPr/>
          </p:nvGrpSpPr>
          <p:grpSpPr>
            <a:xfrm>
              <a:off x="3394080" y="4875120"/>
              <a:ext cx="792000" cy="1523880"/>
              <a:chOff x="3394080" y="4875120"/>
              <a:chExt cx="792000" cy="1523880"/>
            </a:xfrm>
          </p:grpSpPr>
          <p:sp>
            <p:nvSpPr>
              <p:cNvPr id="543" name=""/>
              <p:cNvSpPr/>
              <p:nvPr/>
            </p:nvSpPr>
            <p:spPr>
              <a:xfrm>
                <a:off x="349236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408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5" name=""/>
            <p:cNvSpPr/>
            <p:nvPr/>
          </p:nvSpPr>
          <p:spPr>
            <a:xfrm>
              <a:off x="332100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3300"/>
                  </a:solidFill>
                  <a:latin typeface="Trebuchet MS"/>
                </a:rPr>
                <a:t>CENTRIX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425840" y="4875120"/>
            <a:ext cx="914400" cy="1523880"/>
            <a:chOff x="4425840" y="4875120"/>
            <a:chExt cx="914400" cy="1523880"/>
          </a:xfrm>
        </p:grpSpPr>
        <p:grpSp>
          <p:nvGrpSpPr>
            <p:cNvPr id="547" name=""/>
            <p:cNvGrpSpPr/>
            <p:nvPr/>
          </p:nvGrpSpPr>
          <p:grpSpPr>
            <a:xfrm>
              <a:off x="4498920" y="4875120"/>
              <a:ext cx="792360" cy="1523880"/>
              <a:chOff x="4498920" y="4875120"/>
              <a:chExt cx="792360" cy="1523880"/>
            </a:xfrm>
          </p:grpSpPr>
          <p:sp>
            <p:nvSpPr>
              <p:cNvPr id="548" name=""/>
              <p:cNvSpPr/>
              <p:nvPr/>
            </p:nvSpPr>
            <p:spPr>
              <a:xfrm>
                <a:off x="4597560" y="5036760"/>
                <a:ext cx="57132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8920" y="4875120"/>
                <a:ext cx="792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0" name=""/>
            <p:cNvSpPr/>
            <p:nvPr/>
          </p:nvSpPr>
          <p:spPr>
            <a:xfrm>
              <a:off x="442584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9900"/>
                  </a:solidFill>
                  <a:latin typeface="Trebuchet MS"/>
                </a:rPr>
                <a:t>NSA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492880" y="4875120"/>
            <a:ext cx="914400" cy="1523880"/>
            <a:chOff x="5492880" y="4875120"/>
            <a:chExt cx="914400" cy="1523880"/>
          </a:xfrm>
        </p:grpSpPr>
        <p:grpSp>
          <p:nvGrpSpPr>
            <p:cNvPr id="552" name=""/>
            <p:cNvGrpSpPr/>
            <p:nvPr/>
          </p:nvGrpSpPr>
          <p:grpSpPr>
            <a:xfrm>
              <a:off x="5591160" y="4875120"/>
              <a:ext cx="792000" cy="1523880"/>
              <a:chOff x="5591160" y="4875120"/>
              <a:chExt cx="792000" cy="15238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8944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116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"/>
            <p:cNvSpPr/>
            <p:nvPr/>
          </p:nvSpPr>
          <p:spPr>
            <a:xfrm>
              <a:off x="5492880" y="558180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Trebuchet MS"/>
                </a:rPr>
                <a:t>JWI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654960" y="4875120"/>
            <a:ext cx="914400" cy="1523880"/>
            <a:chOff x="6654960" y="4875120"/>
            <a:chExt cx="914400" cy="1523880"/>
          </a:xfrm>
        </p:grpSpPr>
        <p:grpSp>
          <p:nvGrpSpPr>
            <p:cNvPr id="557" name=""/>
            <p:cNvGrpSpPr/>
            <p:nvPr/>
          </p:nvGrpSpPr>
          <p:grpSpPr>
            <a:xfrm>
              <a:off x="6708600" y="4875120"/>
              <a:ext cx="792360" cy="1523880"/>
              <a:chOff x="6708600" y="4875120"/>
              <a:chExt cx="792360" cy="1523880"/>
            </a:xfrm>
          </p:grpSpPr>
          <p:sp>
            <p:nvSpPr>
              <p:cNvPr id="558" name=""/>
              <p:cNvSpPr/>
              <p:nvPr/>
            </p:nvSpPr>
            <p:spPr>
              <a:xfrm>
                <a:off x="6807240" y="5036760"/>
                <a:ext cx="57132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708600" y="4875120"/>
                <a:ext cx="792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"/>
            <p:cNvSpPr/>
            <p:nvPr/>
          </p:nvSpPr>
          <p:spPr>
            <a:xfrm>
              <a:off x="6654960" y="558180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Trebuchet MS"/>
                </a:rPr>
                <a:t>IDC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16000" y="2743200"/>
            <a:ext cx="58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ybex SwitchView 8-Port KVM Switch w/OSD (1008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D617-9747-4926-916F-9890BB924ED1}" type="slidenum">
              <a:t>18</a:t>
            </a:fld>
          </a:p>
        </p:txBody>
      </p:sp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888840" y="5194440"/>
            <a:ext cx="732816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Intelligence Community’s “One-Stop-Shop” for authorized IC classification &amp; control mark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7240" y="6516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ontrolled Access Program Coordination Office (CAPCO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3334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4720" y="5951160"/>
            <a:ext cx="5846760" cy="56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00"/>
                </a:solidFill>
                <a:latin typeface="Verdana"/>
              </a:rPr>
              <a:t>JWIC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- http://capco.dssc.ic.gov/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S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- http://capco.dssc.sgov.gov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Picture 27" descr=""/>
          <p:cNvPicPr/>
          <p:nvPr/>
        </p:nvPicPr>
        <p:blipFill>
          <a:blip r:embed="rId1"/>
          <a:stretch/>
        </p:blipFill>
        <p:spPr>
          <a:xfrm>
            <a:off x="291960" y="1571760"/>
            <a:ext cx="8521920" cy="3531960"/>
          </a:xfrm>
          <a:prstGeom prst="rect">
            <a:avLst/>
          </a:prstGeom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2C7B-411B-4050-ACD2-A5618354C445}" type="slidenum">
              <a:t>19</a:t>
            </a:fld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3040" y="1412640"/>
            <a:ext cx="8415360" cy="497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o service the Intelligence need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of the Army and Intelligence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ommunity by providing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Intelligence Web &amp; Portal Services,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Access Information &amp; Disseminatio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Management, and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DoD Intelligence Production Requirement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7240" y="3924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Mission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B5FB-A649-4225-ACE6-CC8FA589FB21}" type="slidenum">
              <a:t>2</a:t>
            </a:fld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1520" y="2868480"/>
            <a:ext cx="53323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DDS allows (operational) JWICS users to browse-down using a web browser proxy setting and see SIPRNET and StoneGhost through any common JWICS 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DDS also allows data to be searched and saved from SIPRNET and StoneGhost to your common JWICS 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Future MDDS versions (PKI enabled) will allow users the capability to </a:t>
            </a:r>
            <a:r>
              <a:rPr b="1" lang="en-US" sz="1800" spc="-1" strike="noStrike" u="sng">
                <a:solidFill>
                  <a:srgbClr val="ffffcc"/>
                </a:solidFill>
                <a:uFillTx/>
                <a:latin typeface="Verdana"/>
              </a:rPr>
              <a:t>write-down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or </a:t>
            </a:r>
            <a:r>
              <a:rPr b="1" lang="en-US" sz="1800" spc="-1" strike="noStrike" u="sng">
                <a:solidFill>
                  <a:srgbClr val="ffffcc"/>
                </a:solidFill>
                <a:uFillTx/>
                <a:latin typeface="Verdana"/>
              </a:rPr>
              <a:t>push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to SIPRNET or StoneGhost from JW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Multi Domain Dissemination System, or MDD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569" name="Picture 8" descr=""/>
          <p:cNvPicPr/>
          <p:nvPr/>
        </p:nvPicPr>
        <p:blipFill>
          <a:blip r:embed="rId1"/>
          <a:stretch/>
        </p:blipFill>
        <p:spPr>
          <a:xfrm>
            <a:off x="1432080" y="1670040"/>
            <a:ext cx="6548400" cy="1079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570" name=""/>
          <p:cNvGrpSpPr/>
          <p:nvPr/>
        </p:nvGrpSpPr>
        <p:grpSpPr>
          <a:xfrm>
            <a:off x="5378400" y="3147840"/>
            <a:ext cx="3621240" cy="2720880"/>
            <a:chOff x="5378400" y="3147840"/>
            <a:chExt cx="3621240" cy="2720880"/>
          </a:xfrm>
        </p:grpSpPr>
        <p:sp>
          <p:nvSpPr>
            <p:cNvPr id="571" name=""/>
            <p:cNvSpPr/>
            <p:nvPr/>
          </p:nvSpPr>
          <p:spPr>
            <a:xfrm>
              <a:off x="5379840" y="5516280"/>
              <a:ext cx="3617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http://mdds.dia.ic.gov/ho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5378400" y="3147840"/>
              <a:ext cx="3621240" cy="23961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73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D4A3-2B9C-4EF3-913A-9E32AB452299}" type="slidenum">
              <a:t>20</a:t>
            </a:fld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66760" y="1595520"/>
            <a:ext cx="85741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 Public Key Infrastructure (PKI) provid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ccess Control (protection against unauthorized acc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uthentication (protection against user, client, or server spoof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Confidentiality (protection against unauthorized disclosur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ntegrity (protection against unauthorized modification)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KI technology on all networks -- JWICS, NSANET, SIPRNET, NIPRNET.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Public Key Infrastructure (PKI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33240" y="4029840"/>
            <a:ext cx="7624800" cy="2509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 more information visit the following web pages at: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cccc00"/>
                </a:solidFill>
                <a:latin typeface="Verdana"/>
              </a:rPr>
              <a:t>JWIC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www.dia.ic.gov/proj/dodiis/pki/toc-pki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NSA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s://arsonfire.q.nsa/pki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S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reg.c3pki.chamb.disa.smil.mil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N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www.dodpke.com/public/publicAccess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060B-E8F0-4320-A285-6CD8DB280FF2}" type="slidenum">
              <a:t>21</a:t>
            </a:fld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Army Trusted Agents Proces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12600" y="116856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46520" y="3365640"/>
            <a:ext cx="45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t Unit’s Home/Deployed S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54560" y="3675240"/>
            <a:ext cx="5587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Users complete Army FSD registration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SO verifies FSD registration and approves 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quest is submitted to Army FSD Account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rmy FSD auto updates information to DoDIIS F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Once user appears in the DoDIIS FSD, the Trusted Agent can then retrieve &amp; issue the user their P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rusted Agent obtains signed PKI User Agreement Form &amp; forwards original to DIA PKI Program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521240" y="2328840"/>
            <a:ext cx="662040" cy="709200"/>
            <a:chOff x="4521240" y="2328840"/>
            <a:chExt cx="662040" cy="709200"/>
          </a:xfrm>
        </p:grpSpPr>
        <p:sp>
          <p:nvSpPr>
            <p:cNvPr id="583" name=""/>
            <p:cNvSpPr/>
            <p:nvPr/>
          </p:nvSpPr>
          <p:spPr>
            <a:xfrm>
              <a:off x="4620600" y="2328840"/>
              <a:ext cx="257400" cy="145800"/>
            </a:xfrm>
            <a:custGeom>
              <a:avLst/>
              <a:gdLst/>
              <a:ahLst/>
              <a:rect l="l" t="t" r="r" b="b"/>
              <a:pathLst>
                <a:path w="1169" h="837">
                  <a:moveTo>
                    <a:pt x="67" y="131"/>
                  </a:moveTo>
                  <a:lnTo>
                    <a:pt x="28" y="198"/>
                  </a:lnTo>
                  <a:lnTo>
                    <a:pt x="0" y="306"/>
                  </a:lnTo>
                  <a:lnTo>
                    <a:pt x="0" y="381"/>
                  </a:lnTo>
                  <a:lnTo>
                    <a:pt x="16" y="464"/>
                  </a:lnTo>
                  <a:lnTo>
                    <a:pt x="43" y="541"/>
                  </a:lnTo>
                  <a:lnTo>
                    <a:pt x="61" y="574"/>
                  </a:lnTo>
                  <a:lnTo>
                    <a:pt x="113" y="642"/>
                  </a:lnTo>
                  <a:lnTo>
                    <a:pt x="184" y="709"/>
                  </a:lnTo>
                  <a:lnTo>
                    <a:pt x="301" y="788"/>
                  </a:lnTo>
                  <a:lnTo>
                    <a:pt x="381" y="822"/>
                  </a:lnTo>
                  <a:lnTo>
                    <a:pt x="551" y="837"/>
                  </a:lnTo>
                  <a:lnTo>
                    <a:pt x="664" y="824"/>
                  </a:lnTo>
                  <a:lnTo>
                    <a:pt x="719" y="804"/>
                  </a:lnTo>
                  <a:lnTo>
                    <a:pt x="798" y="729"/>
                  </a:lnTo>
                  <a:lnTo>
                    <a:pt x="816" y="717"/>
                  </a:lnTo>
                  <a:lnTo>
                    <a:pt x="834" y="709"/>
                  </a:lnTo>
                  <a:lnTo>
                    <a:pt x="874" y="703"/>
                  </a:lnTo>
                  <a:lnTo>
                    <a:pt x="981" y="727"/>
                  </a:lnTo>
                  <a:lnTo>
                    <a:pt x="1041" y="757"/>
                  </a:lnTo>
                  <a:lnTo>
                    <a:pt x="1066" y="772"/>
                  </a:lnTo>
                  <a:lnTo>
                    <a:pt x="1078" y="776"/>
                  </a:lnTo>
                  <a:lnTo>
                    <a:pt x="1090" y="776"/>
                  </a:lnTo>
                  <a:lnTo>
                    <a:pt x="1102" y="772"/>
                  </a:lnTo>
                  <a:lnTo>
                    <a:pt x="1139" y="745"/>
                  </a:lnTo>
                  <a:lnTo>
                    <a:pt x="1159" y="721"/>
                  </a:lnTo>
                  <a:lnTo>
                    <a:pt x="1165" y="709"/>
                  </a:lnTo>
                  <a:lnTo>
                    <a:pt x="1169" y="696"/>
                  </a:lnTo>
                  <a:lnTo>
                    <a:pt x="1169" y="675"/>
                  </a:lnTo>
                  <a:lnTo>
                    <a:pt x="1159" y="650"/>
                  </a:lnTo>
                  <a:lnTo>
                    <a:pt x="1141" y="632"/>
                  </a:lnTo>
                  <a:lnTo>
                    <a:pt x="1120" y="616"/>
                  </a:lnTo>
                  <a:lnTo>
                    <a:pt x="1105" y="614"/>
                  </a:lnTo>
                  <a:lnTo>
                    <a:pt x="975" y="616"/>
                  </a:lnTo>
                  <a:lnTo>
                    <a:pt x="949" y="610"/>
                  </a:lnTo>
                  <a:lnTo>
                    <a:pt x="910" y="586"/>
                  </a:lnTo>
                  <a:lnTo>
                    <a:pt x="895" y="574"/>
                  </a:lnTo>
                  <a:lnTo>
                    <a:pt x="889" y="571"/>
                  </a:lnTo>
                  <a:lnTo>
                    <a:pt x="883" y="565"/>
                  </a:lnTo>
                  <a:lnTo>
                    <a:pt x="883" y="561"/>
                  </a:lnTo>
                  <a:lnTo>
                    <a:pt x="880" y="559"/>
                  </a:lnTo>
                  <a:lnTo>
                    <a:pt x="880" y="549"/>
                  </a:lnTo>
                  <a:lnTo>
                    <a:pt x="870" y="498"/>
                  </a:lnTo>
                  <a:lnTo>
                    <a:pt x="870" y="474"/>
                  </a:lnTo>
                  <a:lnTo>
                    <a:pt x="858" y="387"/>
                  </a:lnTo>
                  <a:lnTo>
                    <a:pt x="850" y="360"/>
                  </a:lnTo>
                  <a:lnTo>
                    <a:pt x="816" y="287"/>
                  </a:lnTo>
                  <a:lnTo>
                    <a:pt x="747" y="189"/>
                  </a:lnTo>
                  <a:lnTo>
                    <a:pt x="648" y="103"/>
                  </a:lnTo>
                  <a:lnTo>
                    <a:pt x="523" y="33"/>
                  </a:lnTo>
                  <a:lnTo>
                    <a:pt x="457" y="12"/>
                  </a:lnTo>
                  <a:lnTo>
                    <a:pt x="387" y="0"/>
                  </a:lnTo>
                  <a:lnTo>
                    <a:pt x="271" y="0"/>
                  </a:lnTo>
                  <a:lnTo>
                    <a:pt x="235" y="6"/>
                  </a:lnTo>
                  <a:lnTo>
                    <a:pt x="171" y="30"/>
                  </a:lnTo>
                  <a:lnTo>
                    <a:pt x="117" y="73"/>
                  </a:lnTo>
                  <a:lnTo>
                    <a:pt x="6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53000" y="2495880"/>
              <a:ext cx="239040" cy="271080"/>
            </a:xfrm>
            <a:custGeom>
              <a:avLst/>
              <a:gdLst/>
              <a:ahLst/>
              <a:rect l="l" t="t" r="r" b="b"/>
              <a:pathLst>
                <a:path w="1083" h="1559">
                  <a:moveTo>
                    <a:pt x="261" y="75"/>
                  </a:moveTo>
                  <a:lnTo>
                    <a:pt x="206" y="144"/>
                  </a:lnTo>
                  <a:lnTo>
                    <a:pt x="109" y="350"/>
                  </a:lnTo>
                  <a:lnTo>
                    <a:pt x="21" y="667"/>
                  </a:lnTo>
                  <a:lnTo>
                    <a:pt x="0" y="841"/>
                  </a:lnTo>
                  <a:lnTo>
                    <a:pt x="0" y="899"/>
                  </a:lnTo>
                  <a:lnTo>
                    <a:pt x="27" y="1077"/>
                  </a:lnTo>
                  <a:lnTo>
                    <a:pt x="85" y="1247"/>
                  </a:lnTo>
                  <a:lnTo>
                    <a:pt x="140" y="1339"/>
                  </a:lnTo>
                  <a:lnTo>
                    <a:pt x="210" y="1413"/>
                  </a:lnTo>
                  <a:lnTo>
                    <a:pt x="334" y="1492"/>
                  </a:lnTo>
                  <a:lnTo>
                    <a:pt x="469" y="1541"/>
                  </a:lnTo>
                  <a:lnTo>
                    <a:pt x="602" y="1559"/>
                  </a:lnTo>
                  <a:lnTo>
                    <a:pt x="736" y="1547"/>
                  </a:lnTo>
                  <a:lnTo>
                    <a:pt x="870" y="1519"/>
                  </a:lnTo>
                  <a:lnTo>
                    <a:pt x="921" y="1498"/>
                  </a:lnTo>
                  <a:lnTo>
                    <a:pt x="967" y="1470"/>
                  </a:lnTo>
                  <a:lnTo>
                    <a:pt x="1004" y="1431"/>
                  </a:lnTo>
                  <a:lnTo>
                    <a:pt x="1050" y="1345"/>
                  </a:lnTo>
                  <a:lnTo>
                    <a:pt x="1062" y="1312"/>
                  </a:lnTo>
                  <a:lnTo>
                    <a:pt x="1083" y="1211"/>
                  </a:lnTo>
                  <a:lnTo>
                    <a:pt x="1083" y="1180"/>
                  </a:lnTo>
                  <a:lnTo>
                    <a:pt x="1076" y="1122"/>
                  </a:lnTo>
                  <a:lnTo>
                    <a:pt x="1056" y="1071"/>
                  </a:lnTo>
                  <a:lnTo>
                    <a:pt x="998" y="978"/>
                  </a:lnTo>
                  <a:lnTo>
                    <a:pt x="961" y="948"/>
                  </a:lnTo>
                  <a:lnTo>
                    <a:pt x="828" y="893"/>
                  </a:lnTo>
                  <a:lnTo>
                    <a:pt x="748" y="850"/>
                  </a:lnTo>
                  <a:lnTo>
                    <a:pt x="699" y="814"/>
                  </a:lnTo>
                  <a:lnTo>
                    <a:pt x="687" y="802"/>
                  </a:lnTo>
                  <a:lnTo>
                    <a:pt x="672" y="774"/>
                  </a:lnTo>
                  <a:lnTo>
                    <a:pt x="663" y="747"/>
                  </a:lnTo>
                  <a:lnTo>
                    <a:pt x="663" y="679"/>
                  </a:lnTo>
                  <a:lnTo>
                    <a:pt x="681" y="593"/>
                  </a:lnTo>
                  <a:lnTo>
                    <a:pt x="776" y="312"/>
                  </a:lnTo>
                  <a:lnTo>
                    <a:pt x="782" y="285"/>
                  </a:lnTo>
                  <a:lnTo>
                    <a:pt x="784" y="257"/>
                  </a:lnTo>
                  <a:lnTo>
                    <a:pt x="782" y="209"/>
                  </a:lnTo>
                  <a:lnTo>
                    <a:pt x="769" y="166"/>
                  </a:lnTo>
                  <a:lnTo>
                    <a:pt x="748" y="126"/>
                  </a:lnTo>
                  <a:lnTo>
                    <a:pt x="723" y="93"/>
                  </a:lnTo>
                  <a:lnTo>
                    <a:pt x="693" y="65"/>
                  </a:lnTo>
                  <a:lnTo>
                    <a:pt x="654" y="44"/>
                  </a:lnTo>
                  <a:lnTo>
                    <a:pt x="566" y="14"/>
                  </a:lnTo>
                  <a:lnTo>
                    <a:pt x="471" y="0"/>
                  </a:lnTo>
                  <a:lnTo>
                    <a:pt x="422" y="4"/>
                  </a:lnTo>
                  <a:lnTo>
                    <a:pt x="376" y="14"/>
                  </a:lnTo>
                  <a:lnTo>
                    <a:pt x="298" y="47"/>
                  </a:lnTo>
                  <a:lnTo>
                    <a:pt x="279" y="59"/>
                  </a:lnTo>
                  <a:lnTo>
                    <a:pt x="2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64960" y="2504160"/>
              <a:ext cx="418320" cy="127800"/>
            </a:xfrm>
            <a:custGeom>
              <a:avLst/>
              <a:gdLst/>
              <a:ahLst/>
              <a:rect l="l" t="t" r="r" b="b"/>
              <a:pathLst>
                <a:path w="1898" h="733">
                  <a:moveTo>
                    <a:pt x="93" y="0"/>
                  </a:moveTo>
                  <a:lnTo>
                    <a:pt x="73" y="6"/>
                  </a:lnTo>
                  <a:lnTo>
                    <a:pt x="55" y="15"/>
                  </a:lnTo>
                  <a:lnTo>
                    <a:pt x="40" y="27"/>
                  </a:lnTo>
                  <a:lnTo>
                    <a:pt x="16" y="58"/>
                  </a:lnTo>
                  <a:lnTo>
                    <a:pt x="7" y="76"/>
                  </a:lnTo>
                  <a:lnTo>
                    <a:pt x="0" y="106"/>
                  </a:lnTo>
                  <a:lnTo>
                    <a:pt x="0" y="128"/>
                  </a:lnTo>
                  <a:lnTo>
                    <a:pt x="7" y="171"/>
                  </a:lnTo>
                  <a:lnTo>
                    <a:pt x="16" y="193"/>
                  </a:lnTo>
                  <a:lnTo>
                    <a:pt x="28" y="213"/>
                  </a:lnTo>
                  <a:lnTo>
                    <a:pt x="46" y="232"/>
                  </a:lnTo>
                  <a:lnTo>
                    <a:pt x="71" y="250"/>
                  </a:lnTo>
                  <a:lnTo>
                    <a:pt x="192" y="294"/>
                  </a:lnTo>
                  <a:lnTo>
                    <a:pt x="844" y="470"/>
                  </a:lnTo>
                  <a:lnTo>
                    <a:pt x="1034" y="504"/>
                  </a:lnTo>
                  <a:lnTo>
                    <a:pt x="1117" y="519"/>
                  </a:lnTo>
                  <a:lnTo>
                    <a:pt x="1147" y="529"/>
                  </a:lnTo>
                  <a:lnTo>
                    <a:pt x="1157" y="529"/>
                  </a:lnTo>
                  <a:lnTo>
                    <a:pt x="1163" y="531"/>
                  </a:lnTo>
                  <a:lnTo>
                    <a:pt x="1169" y="541"/>
                  </a:lnTo>
                  <a:lnTo>
                    <a:pt x="1171" y="547"/>
                  </a:lnTo>
                  <a:lnTo>
                    <a:pt x="1177" y="556"/>
                  </a:lnTo>
                  <a:lnTo>
                    <a:pt x="1184" y="590"/>
                  </a:lnTo>
                  <a:lnTo>
                    <a:pt x="1184" y="657"/>
                  </a:lnTo>
                  <a:lnTo>
                    <a:pt x="1187" y="677"/>
                  </a:lnTo>
                  <a:lnTo>
                    <a:pt x="1193" y="697"/>
                  </a:lnTo>
                  <a:lnTo>
                    <a:pt x="1202" y="709"/>
                  </a:lnTo>
                  <a:lnTo>
                    <a:pt x="1214" y="718"/>
                  </a:lnTo>
                  <a:lnTo>
                    <a:pt x="1232" y="724"/>
                  </a:lnTo>
                  <a:lnTo>
                    <a:pt x="1272" y="733"/>
                  </a:lnTo>
                  <a:lnTo>
                    <a:pt x="1315" y="730"/>
                  </a:lnTo>
                  <a:lnTo>
                    <a:pt x="1355" y="721"/>
                  </a:lnTo>
                  <a:lnTo>
                    <a:pt x="1373" y="711"/>
                  </a:lnTo>
                  <a:lnTo>
                    <a:pt x="1424" y="665"/>
                  </a:lnTo>
                  <a:lnTo>
                    <a:pt x="1494" y="586"/>
                  </a:lnTo>
                  <a:lnTo>
                    <a:pt x="1500" y="577"/>
                  </a:lnTo>
                  <a:lnTo>
                    <a:pt x="1512" y="562"/>
                  </a:lnTo>
                  <a:lnTo>
                    <a:pt x="1518" y="556"/>
                  </a:lnTo>
                  <a:lnTo>
                    <a:pt x="1528" y="549"/>
                  </a:lnTo>
                  <a:lnTo>
                    <a:pt x="1555" y="543"/>
                  </a:lnTo>
                  <a:lnTo>
                    <a:pt x="1607" y="543"/>
                  </a:lnTo>
                  <a:lnTo>
                    <a:pt x="1768" y="562"/>
                  </a:lnTo>
                  <a:lnTo>
                    <a:pt x="1832" y="559"/>
                  </a:lnTo>
                  <a:lnTo>
                    <a:pt x="1862" y="553"/>
                  </a:lnTo>
                  <a:lnTo>
                    <a:pt x="1884" y="543"/>
                  </a:lnTo>
                  <a:lnTo>
                    <a:pt x="1896" y="531"/>
                  </a:lnTo>
                  <a:lnTo>
                    <a:pt x="1898" y="523"/>
                  </a:lnTo>
                  <a:lnTo>
                    <a:pt x="1898" y="510"/>
                  </a:lnTo>
                  <a:lnTo>
                    <a:pt x="1892" y="482"/>
                  </a:lnTo>
                  <a:lnTo>
                    <a:pt x="1878" y="458"/>
                  </a:lnTo>
                  <a:lnTo>
                    <a:pt x="1868" y="446"/>
                  </a:lnTo>
                  <a:lnTo>
                    <a:pt x="1859" y="440"/>
                  </a:lnTo>
                  <a:lnTo>
                    <a:pt x="1835" y="434"/>
                  </a:lnTo>
                  <a:lnTo>
                    <a:pt x="1500" y="446"/>
                  </a:lnTo>
                  <a:lnTo>
                    <a:pt x="1208" y="428"/>
                  </a:lnTo>
                  <a:lnTo>
                    <a:pt x="919" y="373"/>
                  </a:lnTo>
                  <a:lnTo>
                    <a:pt x="563" y="250"/>
                  </a:lnTo>
                  <a:lnTo>
                    <a:pt x="299" y="126"/>
                  </a:lnTo>
                  <a:lnTo>
                    <a:pt x="177" y="37"/>
                  </a:lnTo>
                  <a:lnTo>
                    <a:pt x="156" y="18"/>
                  </a:lnTo>
                  <a:lnTo>
                    <a:pt x="135" y="6"/>
                  </a:lnTo>
                  <a:lnTo>
                    <a:pt x="11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21240" y="2501280"/>
              <a:ext cx="216360" cy="190080"/>
            </a:xfrm>
            <a:custGeom>
              <a:avLst/>
              <a:gdLst/>
              <a:ahLst/>
              <a:rect l="l" t="t" r="r" b="b"/>
              <a:pathLst>
                <a:path w="983" h="1090">
                  <a:moveTo>
                    <a:pt x="916" y="2"/>
                  </a:moveTo>
                  <a:lnTo>
                    <a:pt x="791" y="45"/>
                  </a:lnTo>
                  <a:lnTo>
                    <a:pt x="353" y="225"/>
                  </a:lnTo>
                  <a:lnTo>
                    <a:pt x="192" y="306"/>
                  </a:lnTo>
                  <a:lnTo>
                    <a:pt x="117" y="366"/>
                  </a:lnTo>
                  <a:lnTo>
                    <a:pt x="49" y="446"/>
                  </a:lnTo>
                  <a:lnTo>
                    <a:pt x="25" y="488"/>
                  </a:lnTo>
                  <a:lnTo>
                    <a:pt x="0" y="577"/>
                  </a:lnTo>
                  <a:lnTo>
                    <a:pt x="6" y="616"/>
                  </a:lnTo>
                  <a:lnTo>
                    <a:pt x="16" y="632"/>
                  </a:lnTo>
                  <a:lnTo>
                    <a:pt x="31" y="647"/>
                  </a:lnTo>
                  <a:lnTo>
                    <a:pt x="111" y="689"/>
                  </a:lnTo>
                  <a:lnTo>
                    <a:pt x="141" y="715"/>
                  </a:lnTo>
                  <a:lnTo>
                    <a:pt x="162" y="745"/>
                  </a:lnTo>
                  <a:lnTo>
                    <a:pt x="177" y="776"/>
                  </a:lnTo>
                  <a:lnTo>
                    <a:pt x="186" y="809"/>
                  </a:lnTo>
                  <a:lnTo>
                    <a:pt x="189" y="843"/>
                  </a:lnTo>
                  <a:lnTo>
                    <a:pt x="186" y="861"/>
                  </a:lnTo>
                  <a:lnTo>
                    <a:pt x="119" y="974"/>
                  </a:lnTo>
                  <a:lnTo>
                    <a:pt x="117" y="989"/>
                  </a:lnTo>
                  <a:lnTo>
                    <a:pt x="117" y="1001"/>
                  </a:lnTo>
                  <a:lnTo>
                    <a:pt x="119" y="1017"/>
                  </a:lnTo>
                  <a:lnTo>
                    <a:pt x="131" y="1039"/>
                  </a:lnTo>
                  <a:lnTo>
                    <a:pt x="147" y="1057"/>
                  </a:lnTo>
                  <a:lnTo>
                    <a:pt x="165" y="1069"/>
                  </a:lnTo>
                  <a:lnTo>
                    <a:pt x="183" y="1075"/>
                  </a:lnTo>
                  <a:lnTo>
                    <a:pt x="204" y="1072"/>
                  </a:lnTo>
                  <a:lnTo>
                    <a:pt x="226" y="1063"/>
                  </a:lnTo>
                  <a:lnTo>
                    <a:pt x="234" y="1057"/>
                  </a:lnTo>
                  <a:lnTo>
                    <a:pt x="244" y="1045"/>
                  </a:lnTo>
                  <a:lnTo>
                    <a:pt x="250" y="1029"/>
                  </a:lnTo>
                  <a:lnTo>
                    <a:pt x="259" y="956"/>
                  </a:lnTo>
                  <a:lnTo>
                    <a:pt x="259" y="928"/>
                  </a:lnTo>
                  <a:lnTo>
                    <a:pt x="268" y="873"/>
                  </a:lnTo>
                  <a:lnTo>
                    <a:pt x="274" y="867"/>
                  </a:lnTo>
                  <a:lnTo>
                    <a:pt x="280" y="863"/>
                  </a:lnTo>
                  <a:lnTo>
                    <a:pt x="295" y="871"/>
                  </a:lnTo>
                  <a:lnTo>
                    <a:pt x="311" y="889"/>
                  </a:lnTo>
                  <a:lnTo>
                    <a:pt x="323" y="910"/>
                  </a:lnTo>
                  <a:lnTo>
                    <a:pt x="327" y="925"/>
                  </a:lnTo>
                  <a:lnTo>
                    <a:pt x="329" y="946"/>
                  </a:lnTo>
                  <a:lnTo>
                    <a:pt x="329" y="1017"/>
                  </a:lnTo>
                  <a:lnTo>
                    <a:pt x="335" y="1057"/>
                  </a:lnTo>
                  <a:lnTo>
                    <a:pt x="341" y="1069"/>
                  </a:lnTo>
                  <a:lnTo>
                    <a:pt x="351" y="1078"/>
                  </a:lnTo>
                  <a:lnTo>
                    <a:pt x="363" y="1084"/>
                  </a:lnTo>
                  <a:lnTo>
                    <a:pt x="393" y="1090"/>
                  </a:lnTo>
                  <a:lnTo>
                    <a:pt x="436" y="1084"/>
                  </a:lnTo>
                  <a:lnTo>
                    <a:pt x="460" y="1072"/>
                  </a:lnTo>
                  <a:lnTo>
                    <a:pt x="472" y="1057"/>
                  </a:lnTo>
                  <a:lnTo>
                    <a:pt x="478" y="1035"/>
                  </a:lnTo>
                  <a:lnTo>
                    <a:pt x="478" y="1023"/>
                  </a:lnTo>
                  <a:lnTo>
                    <a:pt x="475" y="1007"/>
                  </a:lnTo>
                  <a:lnTo>
                    <a:pt x="469" y="989"/>
                  </a:lnTo>
                  <a:lnTo>
                    <a:pt x="384" y="837"/>
                  </a:lnTo>
                  <a:lnTo>
                    <a:pt x="375" y="803"/>
                  </a:lnTo>
                  <a:lnTo>
                    <a:pt x="375" y="794"/>
                  </a:lnTo>
                  <a:lnTo>
                    <a:pt x="378" y="778"/>
                  </a:lnTo>
                  <a:lnTo>
                    <a:pt x="408" y="757"/>
                  </a:lnTo>
                  <a:lnTo>
                    <a:pt x="436" y="745"/>
                  </a:lnTo>
                  <a:lnTo>
                    <a:pt x="511" y="729"/>
                  </a:lnTo>
                  <a:lnTo>
                    <a:pt x="527" y="723"/>
                  </a:lnTo>
                  <a:lnTo>
                    <a:pt x="535" y="715"/>
                  </a:lnTo>
                  <a:lnTo>
                    <a:pt x="541" y="705"/>
                  </a:lnTo>
                  <a:lnTo>
                    <a:pt x="545" y="693"/>
                  </a:lnTo>
                  <a:lnTo>
                    <a:pt x="545" y="662"/>
                  </a:lnTo>
                  <a:lnTo>
                    <a:pt x="539" y="635"/>
                  </a:lnTo>
                  <a:lnTo>
                    <a:pt x="535" y="626"/>
                  </a:lnTo>
                  <a:lnTo>
                    <a:pt x="529" y="616"/>
                  </a:lnTo>
                  <a:lnTo>
                    <a:pt x="517" y="604"/>
                  </a:lnTo>
                  <a:lnTo>
                    <a:pt x="503" y="595"/>
                  </a:lnTo>
                  <a:lnTo>
                    <a:pt x="481" y="592"/>
                  </a:lnTo>
                  <a:lnTo>
                    <a:pt x="463" y="598"/>
                  </a:lnTo>
                  <a:lnTo>
                    <a:pt x="454" y="604"/>
                  </a:lnTo>
                  <a:lnTo>
                    <a:pt x="402" y="671"/>
                  </a:lnTo>
                  <a:lnTo>
                    <a:pt x="390" y="683"/>
                  </a:lnTo>
                  <a:lnTo>
                    <a:pt x="378" y="689"/>
                  </a:lnTo>
                  <a:lnTo>
                    <a:pt x="365" y="693"/>
                  </a:lnTo>
                  <a:lnTo>
                    <a:pt x="351" y="693"/>
                  </a:lnTo>
                  <a:lnTo>
                    <a:pt x="319" y="687"/>
                  </a:lnTo>
                  <a:lnTo>
                    <a:pt x="222" y="653"/>
                  </a:lnTo>
                  <a:lnTo>
                    <a:pt x="189" y="635"/>
                  </a:lnTo>
                  <a:lnTo>
                    <a:pt x="149" y="608"/>
                  </a:lnTo>
                  <a:lnTo>
                    <a:pt x="141" y="598"/>
                  </a:lnTo>
                  <a:lnTo>
                    <a:pt x="131" y="580"/>
                  </a:lnTo>
                  <a:lnTo>
                    <a:pt x="129" y="561"/>
                  </a:lnTo>
                  <a:lnTo>
                    <a:pt x="135" y="541"/>
                  </a:lnTo>
                  <a:lnTo>
                    <a:pt x="147" y="519"/>
                  </a:lnTo>
                  <a:lnTo>
                    <a:pt x="186" y="466"/>
                  </a:lnTo>
                  <a:lnTo>
                    <a:pt x="216" y="440"/>
                  </a:lnTo>
                  <a:lnTo>
                    <a:pt x="262" y="409"/>
                  </a:lnTo>
                  <a:lnTo>
                    <a:pt x="327" y="375"/>
                  </a:lnTo>
                  <a:lnTo>
                    <a:pt x="567" y="280"/>
                  </a:lnTo>
                  <a:lnTo>
                    <a:pt x="640" y="265"/>
                  </a:lnTo>
                  <a:lnTo>
                    <a:pt x="783" y="256"/>
                  </a:lnTo>
                  <a:lnTo>
                    <a:pt x="840" y="244"/>
                  </a:lnTo>
                  <a:lnTo>
                    <a:pt x="886" y="219"/>
                  </a:lnTo>
                  <a:lnTo>
                    <a:pt x="922" y="192"/>
                  </a:lnTo>
                  <a:lnTo>
                    <a:pt x="949" y="158"/>
                  </a:lnTo>
                  <a:lnTo>
                    <a:pt x="967" y="128"/>
                  </a:lnTo>
                  <a:lnTo>
                    <a:pt x="981" y="91"/>
                  </a:lnTo>
                  <a:lnTo>
                    <a:pt x="983" y="69"/>
                  </a:lnTo>
                  <a:lnTo>
                    <a:pt x="983" y="30"/>
                  </a:lnTo>
                  <a:lnTo>
                    <a:pt x="973" y="15"/>
                  </a:lnTo>
                  <a:lnTo>
                    <a:pt x="961" y="2"/>
                  </a:lnTo>
                  <a:lnTo>
                    <a:pt x="943" y="0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73240" y="2682360"/>
              <a:ext cx="126360" cy="355680"/>
            </a:xfrm>
            <a:custGeom>
              <a:avLst/>
              <a:gdLst/>
              <a:ahLst/>
              <a:rect l="l" t="t" r="r" b="b"/>
              <a:pathLst>
                <a:path w="572" h="2043">
                  <a:moveTo>
                    <a:pt x="372" y="8"/>
                  </a:moveTo>
                  <a:lnTo>
                    <a:pt x="360" y="20"/>
                  </a:lnTo>
                  <a:lnTo>
                    <a:pt x="329" y="75"/>
                  </a:lnTo>
                  <a:lnTo>
                    <a:pt x="293" y="162"/>
                  </a:lnTo>
                  <a:lnTo>
                    <a:pt x="277" y="223"/>
                  </a:lnTo>
                  <a:lnTo>
                    <a:pt x="275" y="256"/>
                  </a:lnTo>
                  <a:lnTo>
                    <a:pt x="225" y="662"/>
                  </a:lnTo>
                  <a:lnTo>
                    <a:pt x="219" y="788"/>
                  </a:lnTo>
                  <a:lnTo>
                    <a:pt x="231" y="1001"/>
                  </a:lnTo>
                  <a:lnTo>
                    <a:pt x="307" y="1414"/>
                  </a:lnTo>
                  <a:lnTo>
                    <a:pt x="366" y="1636"/>
                  </a:lnTo>
                  <a:lnTo>
                    <a:pt x="372" y="1661"/>
                  </a:lnTo>
                  <a:lnTo>
                    <a:pt x="372" y="1679"/>
                  </a:lnTo>
                  <a:lnTo>
                    <a:pt x="366" y="1703"/>
                  </a:lnTo>
                  <a:lnTo>
                    <a:pt x="353" y="1735"/>
                  </a:lnTo>
                  <a:lnTo>
                    <a:pt x="311" y="1798"/>
                  </a:lnTo>
                  <a:lnTo>
                    <a:pt x="275" y="1826"/>
                  </a:lnTo>
                  <a:lnTo>
                    <a:pt x="186" y="1863"/>
                  </a:lnTo>
                  <a:lnTo>
                    <a:pt x="85" y="1893"/>
                  </a:lnTo>
                  <a:lnTo>
                    <a:pt x="37" y="1918"/>
                  </a:lnTo>
                  <a:lnTo>
                    <a:pt x="21" y="1930"/>
                  </a:lnTo>
                  <a:lnTo>
                    <a:pt x="3" y="1960"/>
                  </a:lnTo>
                  <a:lnTo>
                    <a:pt x="0" y="1976"/>
                  </a:lnTo>
                  <a:lnTo>
                    <a:pt x="0" y="1991"/>
                  </a:lnTo>
                  <a:lnTo>
                    <a:pt x="3" y="2003"/>
                  </a:lnTo>
                  <a:lnTo>
                    <a:pt x="9" y="2013"/>
                  </a:lnTo>
                  <a:lnTo>
                    <a:pt x="19" y="2021"/>
                  </a:lnTo>
                  <a:lnTo>
                    <a:pt x="33" y="2027"/>
                  </a:lnTo>
                  <a:lnTo>
                    <a:pt x="79" y="2040"/>
                  </a:lnTo>
                  <a:lnTo>
                    <a:pt x="110" y="2043"/>
                  </a:lnTo>
                  <a:lnTo>
                    <a:pt x="195" y="2040"/>
                  </a:lnTo>
                  <a:lnTo>
                    <a:pt x="219" y="2033"/>
                  </a:lnTo>
                  <a:lnTo>
                    <a:pt x="241" y="2021"/>
                  </a:lnTo>
                  <a:lnTo>
                    <a:pt x="259" y="2007"/>
                  </a:lnTo>
                  <a:lnTo>
                    <a:pt x="338" y="1906"/>
                  </a:lnTo>
                  <a:lnTo>
                    <a:pt x="360" y="1887"/>
                  </a:lnTo>
                  <a:lnTo>
                    <a:pt x="384" y="1872"/>
                  </a:lnTo>
                  <a:lnTo>
                    <a:pt x="499" y="1826"/>
                  </a:lnTo>
                  <a:lnTo>
                    <a:pt x="545" y="1802"/>
                  </a:lnTo>
                  <a:lnTo>
                    <a:pt x="560" y="1790"/>
                  </a:lnTo>
                  <a:lnTo>
                    <a:pt x="569" y="1778"/>
                  </a:lnTo>
                  <a:lnTo>
                    <a:pt x="572" y="1762"/>
                  </a:lnTo>
                  <a:lnTo>
                    <a:pt x="572" y="1750"/>
                  </a:lnTo>
                  <a:lnTo>
                    <a:pt x="569" y="1735"/>
                  </a:lnTo>
                  <a:lnTo>
                    <a:pt x="542" y="1679"/>
                  </a:lnTo>
                  <a:lnTo>
                    <a:pt x="527" y="1655"/>
                  </a:lnTo>
                  <a:lnTo>
                    <a:pt x="483" y="1612"/>
                  </a:lnTo>
                  <a:lnTo>
                    <a:pt x="469" y="1576"/>
                  </a:lnTo>
                  <a:lnTo>
                    <a:pt x="465" y="1551"/>
                  </a:lnTo>
                  <a:lnTo>
                    <a:pt x="469" y="1331"/>
                  </a:lnTo>
                  <a:lnTo>
                    <a:pt x="457" y="1261"/>
                  </a:lnTo>
                  <a:lnTo>
                    <a:pt x="435" y="1185"/>
                  </a:lnTo>
                  <a:lnTo>
                    <a:pt x="408" y="1025"/>
                  </a:lnTo>
                  <a:lnTo>
                    <a:pt x="411" y="946"/>
                  </a:lnTo>
                  <a:lnTo>
                    <a:pt x="499" y="421"/>
                  </a:lnTo>
                  <a:lnTo>
                    <a:pt x="497" y="204"/>
                  </a:lnTo>
                  <a:lnTo>
                    <a:pt x="487" y="146"/>
                  </a:lnTo>
                  <a:lnTo>
                    <a:pt x="447" y="48"/>
                  </a:lnTo>
                  <a:lnTo>
                    <a:pt x="420" y="14"/>
                  </a:lnTo>
                  <a:lnTo>
                    <a:pt x="408" y="6"/>
                  </a:lnTo>
                  <a:lnTo>
                    <a:pt x="396" y="0"/>
                  </a:lnTo>
                  <a:lnTo>
                    <a:pt x="384" y="0"/>
                  </a:lnTo>
                  <a:lnTo>
                    <a:pt x="3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81440" y="2683440"/>
              <a:ext cx="102600" cy="347400"/>
            </a:xfrm>
            <a:custGeom>
              <a:avLst/>
              <a:gdLst/>
              <a:ahLst/>
              <a:rect l="l" t="t" r="r" b="b"/>
              <a:pathLst>
                <a:path w="466" h="1995">
                  <a:moveTo>
                    <a:pt x="244" y="12"/>
                  </a:moveTo>
                  <a:lnTo>
                    <a:pt x="232" y="28"/>
                  </a:lnTo>
                  <a:lnTo>
                    <a:pt x="204" y="113"/>
                  </a:lnTo>
                  <a:lnTo>
                    <a:pt x="192" y="248"/>
                  </a:lnTo>
                  <a:lnTo>
                    <a:pt x="204" y="636"/>
                  </a:lnTo>
                  <a:lnTo>
                    <a:pt x="234" y="975"/>
                  </a:lnTo>
                  <a:lnTo>
                    <a:pt x="320" y="1421"/>
                  </a:lnTo>
                  <a:lnTo>
                    <a:pt x="335" y="1547"/>
                  </a:lnTo>
                  <a:lnTo>
                    <a:pt x="326" y="1608"/>
                  </a:lnTo>
                  <a:lnTo>
                    <a:pt x="317" y="1626"/>
                  </a:lnTo>
                  <a:lnTo>
                    <a:pt x="305" y="1644"/>
                  </a:lnTo>
                  <a:lnTo>
                    <a:pt x="256" y="1681"/>
                  </a:lnTo>
                  <a:lnTo>
                    <a:pt x="234" y="1693"/>
                  </a:lnTo>
                  <a:lnTo>
                    <a:pt x="195" y="1727"/>
                  </a:lnTo>
                  <a:lnTo>
                    <a:pt x="64" y="1815"/>
                  </a:lnTo>
                  <a:lnTo>
                    <a:pt x="28" y="1849"/>
                  </a:lnTo>
                  <a:lnTo>
                    <a:pt x="10" y="1879"/>
                  </a:lnTo>
                  <a:lnTo>
                    <a:pt x="0" y="1910"/>
                  </a:lnTo>
                  <a:lnTo>
                    <a:pt x="0" y="1938"/>
                  </a:lnTo>
                  <a:lnTo>
                    <a:pt x="6" y="1950"/>
                  </a:lnTo>
                  <a:lnTo>
                    <a:pt x="28" y="1968"/>
                  </a:lnTo>
                  <a:lnTo>
                    <a:pt x="50" y="1977"/>
                  </a:lnTo>
                  <a:lnTo>
                    <a:pt x="95" y="1989"/>
                  </a:lnTo>
                  <a:lnTo>
                    <a:pt x="147" y="1995"/>
                  </a:lnTo>
                  <a:lnTo>
                    <a:pt x="168" y="1995"/>
                  </a:lnTo>
                  <a:lnTo>
                    <a:pt x="186" y="1989"/>
                  </a:lnTo>
                  <a:lnTo>
                    <a:pt x="201" y="1980"/>
                  </a:lnTo>
                  <a:lnTo>
                    <a:pt x="210" y="1965"/>
                  </a:lnTo>
                  <a:lnTo>
                    <a:pt x="220" y="1946"/>
                  </a:lnTo>
                  <a:lnTo>
                    <a:pt x="240" y="1882"/>
                  </a:lnTo>
                  <a:lnTo>
                    <a:pt x="266" y="1849"/>
                  </a:lnTo>
                  <a:lnTo>
                    <a:pt x="280" y="1837"/>
                  </a:lnTo>
                  <a:lnTo>
                    <a:pt x="302" y="1824"/>
                  </a:lnTo>
                  <a:lnTo>
                    <a:pt x="402" y="1782"/>
                  </a:lnTo>
                  <a:lnTo>
                    <a:pt x="438" y="1748"/>
                  </a:lnTo>
                  <a:lnTo>
                    <a:pt x="450" y="1723"/>
                  </a:lnTo>
                  <a:lnTo>
                    <a:pt x="460" y="1671"/>
                  </a:lnTo>
                  <a:lnTo>
                    <a:pt x="460" y="1641"/>
                  </a:lnTo>
                  <a:lnTo>
                    <a:pt x="442" y="1531"/>
                  </a:lnTo>
                  <a:lnTo>
                    <a:pt x="448" y="1335"/>
                  </a:lnTo>
                  <a:lnTo>
                    <a:pt x="405" y="1091"/>
                  </a:lnTo>
                  <a:lnTo>
                    <a:pt x="402" y="834"/>
                  </a:lnTo>
                  <a:lnTo>
                    <a:pt x="466" y="361"/>
                  </a:lnTo>
                  <a:lnTo>
                    <a:pt x="462" y="205"/>
                  </a:lnTo>
                  <a:lnTo>
                    <a:pt x="448" y="128"/>
                  </a:lnTo>
                  <a:lnTo>
                    <a:pt x="436" y="107"/>
                  </a:lnTo>
                  <a:lnTo>
                    <a:pt x="420" y="86"/>
                  </a:lnTo>
                  <a:lnTo>
                    <a:pt x="399" y="65"/>
                  </a:lnTo>
                  <a:lnTo>
                    <a:pt x="351" y="28"/>
                  </a:lnTo>
                  <a:lnTo>
                    <a:pt x="323" y="12"/>
                  </a:lnTo>
                  <a:lnTo>
                    <a:pt x="299" y="4"/>
                  </a:lnTo>
                  <a:lnTo>
                    <a:pt x="278" y="0"/>
                  </a:lnTo>
                  <a:lnTo>
                    <a:pt x="260" y="4"/>
                  </a:lnTo>
                  <a:lnTo>
                    <a:pt x="2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207040" y="2567160"/>
            <a:ext cx="32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ntacts, trains, &amp; assists Army units in the initial PKI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2030400"/>
            <a:ext cx="1435320" cy="9320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65240" y="2892600"/>
            <a:ext cx="32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ordinates with unit SSO regarding their responsib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43280" y="1614600"/>
            <a:ext cx="63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entralized POC for Army DoDIIS PKI Trusted Agent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5480" y="1627200"/>
            <a:ext cx="1066680" cy="333360"/>
          </a:xfrm>
          <a:prstGeom prst="rightArrow">
            <a:avLst>
              <a:gd name="adj1" fmla="val 50000"/>
              <a:gd name="adj2" fmla="val 7999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6485040" y="2116080"/>
            <a:ext cx="619200" cy="355680"/>
          </a:xfrm>
          <a:prstGeom prst="rightArrow">
            <a:avLst>
              <a:gd name="adj1" fmla="val 50000"/>
              <a:gd name="adj2" fmla="val 435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2946240" y="2389320"/>
            <a:ext cx="1067040" cy="333360"/>
          </a:xfrm>
          <a:prstGeom prst="rightArrow">
            <a:avLst>
              <a:gd name="adj1" fmla="val 50000"/>
              <a:gd name="adj2" fmla="val 800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541960" y="5216400"/>
            <a:ext cx="441000" cy="679680"/>
            <a:chOff x="2541960" y="5216400"/>
            <a:chExt cx="441000" cy="679680"/>
          </a:xfrm>
        </p:grpSpPr>
        <p:sp>
          <p:nvSpPr>
            <p:cNvPr id="597" name=""/>
            <p:cNvSpPr/>
            <p:nvPr/>
          </p:nvSpPr>
          <p:spPr>
            <a:xfrm flipH="1">
              <a:off x="2718720" y="5258520"/>
              <a:ext cx="255240" cy="129240"/>
            </a:xfrm>
            <a:custGeom>
              <a:avLst/>
              <a:gdLst/>
              <a:ahLst/>
              <a:rect l="l" t="t" r="r" b="b"/>
              <a:pathLst>
                <a:path w="1458" h="1168">
                  <a:moveTo>
                    <a:pt x="902" y="293"/>
                  </a:moveTo>
                  <a:lnTo>
                    <a:pt x="794" y="167"/>
                  </a:lnTo>
                  <a:lnTo>
                    <a:pt x="667" y="64"/>
                  </a:lnTo>
                  <a:lnTo>
                    <a:pt x="599" y="30"/>
                  </a:lnTo>
                  <a:lnTo>
                    <a:pt x="528" y="8"/>
                  </a:lnTo>
                  <a:lnTo>
                    <a:pt x="383" y="0"/>
                  </a:lnTo>
                  <a:lnTo>
                    <a:pt x="312" y="12"/>
                  </a:lnTo>
                  <a:lnTo>
                    <a:pt x="167" y="64"/>
                  </a:lnTo>
                  <a:lnTo>
                    <a:pt x="101" y="110"/>
                  </a:lnTo>
                  <a:lnTo>
                    <a:pt x="73" y="138"/>
                  </a:lnTo>
                  <a:lnTo>
                    <a:pt x="53" y="170"/>
                  </a:lnTo>
                  <a:lnTo>
                    <a:pt x="21" y="251"/>
                  </a:lnTo>
                  <a:lnTo>
                    <a:pt x="3" y="347"/>
                  </a:lnTo>
                  <a:lnTo>
                    <a:pt x="0" y="501"/>
                  </a:lnTo>
                  <a:lnTo>
                    <a:pt x="15" y="598"/>
                  </a:lnTo>
                  <a:lnTo>
                    <a:pt x="67" y="743"/>
                  </a:lnTo>
                  <a:lnTo>
                    <a:pt x="114" y="836"/>
                  </a:lnTo>
                  <a:lnTo>
                    <a:pt x="188" y="947"/>
                  </a:lnTo>
                  <a:lnTo>
                    <a:pt x="238" y="1003"/>
                  </a:lnTo>
                  <a:lnTo>
                    <a:pt x="325" y="1065"/>
                  </a:lnTo>
                  <a:lnTo>
                    <a:pt x="420" y="1115"/>
                  </a:lnTo>
                  <a:lnTo>
                    <a:pt x="534" y="1152"/>
                  </a:lnTo>
                  <a:lnTo>
                    <a:pt x="655" y="1168"/>
                  </a:lnTo>
                  <a:lnTo>
                    <a:pt x="766" y="1152"/>
                  </a:lnTo>
                  <a:lnTo>
                    <a:pt x="840" y="1128"/>
                  </a:lnTo>
                  <a:lnTo>
                    <a:pt x="874" y="1112"/>
                  </a:lnTo>
                  <a:lnTo>
                    <a:pt x="936" y="1068"/>
                  </a:lnTo>
                  <a:lnTo>
                    <a:pt x="961" y="1044"/>
                  </a:lnTo>
                  <a:lnTo>
                    <a:pt x="983" y="1013"/>
                  </a:lnTo>
                  <a:lnTo>
                    <a:pt x="1023" y="883"/>
                  </a:lnTo>
                  <a:lnTo>
                    <a:pt x="1044" y="795"/>
                  </a:lnTo>
                  <a:lnTo>
                    <a:pt x="1057" y="761"/>
                  </a:lnTo>
                  <a:lnTo>
                    <a:pt x="1072" y="737"/>
                  </a:lnTo>
                  <a:lnTo>
                    <a:pt x="1090" y="721"/>
                  </a:lnTo>
                  <a:lnTo>
                    <a:pt x="1109" y="715"/>
                  </a:lnTo>
                  <a:lnTo>
                    <a:pt x="1128" y="715"/>
                  </a:lnTo>
                  <a:lnTo>
                    <a:pt x="1192" y="728"/>
                  </a:lnTo>
                  <a:lnTo>
                    <a:pt x="1217" y="730"/>
                  </a:lnTo>
                  <a:lnTo>
                    <a:pt x="1381" y="702"/>
                  </a:lnTo>
                  <a:lnTo>
                    <a:pt x="1427" y="684"/>
                  </a:lnTo>
                  <a:lnTo>
                    <a:pt x="1442" y="672"/>
                  </a:lnTo>
                  <a:lnTo>
                    <a:pt x="1452" y="656"/>
                  </a:lnTo>
                  <a:lnTo>
                    <a:pt x="1458" y="612"/>
                  </a:lnTo>
                  <a:lnTo>
                    <a:pt x="1455" y="592"/>
                  </a:lnTo>
                  <a:lnTo>
                    <a:pt x="1442" y="544"/>
                  </a:lnTo>
                  <a:lnTo>
                    <a:pt x="1434" y="526"/>
                  </a:lnTo>
                  <a:lnTo>
                    <a:pt x="1415" y="504"/>
                  </a:lnTo>
                  <a:lnTo>
                    <a:pt x="1399" y="501"/>
                  </a:lnTo>
                  <a:lnTo>
                    <a:pt x="1369" y="501"/>
                  </a:lnTo>
                  <a:lnTo>
                    <a:pt x="1158" y="548"/>
                  </a:lnTo>
                  <a:lnTo>
                    <a:pt x="1118" y="550"/>
                  </a:lnTo>
                  <a:lnTo>
                    <a:pt x="1103" y="548"/>
                  </a:lnTo>
                  <a:lnTo>
                    <a:pt x="1090" y="548"/>
                  </a:lnTo>
                  <a:lnTo>
                    <a:pt x="1072" y="542"/>
                  </a:lnTo>
                  <a:lnTo>
                    <a:pt x="1063" y="536"/>
                  </a:lnTo>
                  <a:lnTo>
                    <a:pt x="1025" y="495"/>
                  </a:lnTo>
                  <a:lnTo>
                    <a:pt x="967" y="408"/>
                  </a:lnTo>
                  <a:lnTo>
                    <a:pt x="902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629800" y="5396760"/>
              <a:ext cx="241920" cy="233640"/>
            </a:xfrm>
            <a:custGeom>
              <a:avLst/>
              <a:gdLst/>
              <a:ahLst/>
              <a:rect l="l" t="t" r="r" b="b"/>
              <a:pathLst>
                <a:path w="1378" h="2101">
                  <a:moveTo>
                    <a:pt x="837" y="173"/>
                  </a:moveTo>
                  <a:lnTo>
                    <a:pt x="794" y="146"/>
                  </a:lnTo>
                  <a:lnTo>
                    <a:pt x="627" y="65"/>
                  </a:lnTo>
                  <a:lnTo>
                    <a:pt x="482" y="16"/>
                  </a:lnTo>
                  <a:lnTo>
                    <a:pt x="355" y="0"/>
                  </a:lnTo>
                  <a:lnTo>
                    <a:pt x="244" y="6"/>
                  </a:lnTo>
                  <a:lnTo>
                    <a:pt x="195" y="16"/>
                  </a:lnTo>
                  <a:lnTo>
                    <a:pt x="145" y="34"/>
                  </a:lnTo>
                  <a:lnTo>
                    <a:pt x="104" y="56"/>
                  </a:lnTo>
                  <a:lnTo>
                    <a:pt x="40" y="118"/>
                  </a:lnTo>
                  <a:lnTo>
                    <a:pt x="15" y="159"/>
                  </a:lnTo>
                  <a:lnTo>
                    <a:pt x="0" y="233"/>
                  </a:lnTo>
                  <a:lnTo>
                    <a:pt x="6" y="372"/>
                  </a:lnTo>
                  <a:lnTo>
                    <a:pt x="25" y="444"/>
                  </a:lnTo>
                  <a:lnTo>
                    <a:pt x="58" y="506"/>
                  </a:lnTo>
                  <a:lnTo>
                    <a:pt x="114" y="560"/>
                  </a:lnTo>
                  <a:lnTo>
                    <a:pt x="213" y="642"/>
                  </a:lnTo>
                  <a:lnTo>
                    <a:pt x="263" y="697"/>
                  </a:lnTo>
                  <a:lnTo>
                    <a:pt x="327" y="815"/>
                  </a:lnTo>
                  <a:lnTo>
                    <a:pt x="343" y="877"/>
                  </a:lnTo>
                  <a:lnTo>
                    <a:pt x="346" y="939"/>
                  </a:lnTo>
                  <a:lnTo>
                    <a:pt x="340" y="970"/>
                  </a:lnTo>
                  <a:lnTo>
                    <a:pt x="309" y="1036"/>
                  </a:lnTo>
                  <a:lnTo>
                    <a:pt x="247" y="1138"/>
                  </a:lnTo>
                  <a:lnTo>
                    <a:pt x="229" y="1178"/>
                  </a:lnTo>
                  <a:lnTo>
                    <a:pt x="216" y="1218"/>
                  </a:lnTo>
                  <a:lnTo>
                    <a:pt x="176" y="1419"/>
                  </a:lnTo>
                  <a:lnTo>
                    <a:pt x="166" y="1528"/>
                  </a:lnTo>
                  <a:lnTo>
                    <a:pt x="179" y="1628"/>
                  </a:lnTo>
                  <a:lnTo>
                    <a:pt x="216" y="1720"/>
                  </a:lnTo>
                  <a:lnTo>
                    <a:pt x="269" y="1813"/>
                  </a:lnTo>
                  <a:lnTo>
                    <a:pt x="370" y="1931"/>
                  </a:lnTo>
                  <a:lnTo>
                    <a:pt x="410" y="1962"/>
                  </a:lnTo>
                  <a:lnTo>
                    <a:pt x="549" y="2043"/>
                  </a:lnTo>
                  <a:lnTo>
                    <a:pt x="655" y="2079"/>
                  </a:lnTo>
                  <a:lnTo>
                    <a:pt x="708" y="2092"/>
                  </a:lnTo>
                  <a:lnTo>
                    <a:pt x="809" y="2101"/>
                  </a:lnTo>
                  <a:lnTo>
                    <a:pt x="911" y="2089"/>
                  </a:lnTo>
                  <a:lnTo>
                    <a:pt x="1016" y="2055"/>
                  </a:lnTo>
                  <a:lnTo>
                    <a:pt x="1115" y="2009"/>
                  </a:lnTo>
                  <a:lnTo>
                    <a:pt x="1199" y="1943"/>
                  </a:lnTo>
                  <a:lnTo>
                    <a:pt x="1233" y="1906"/>
                  </a:lnTo>
                  <a:lnTo>
                    <a:pt x="1291" y="1816"/>
                  </a:lnTo>
                  <a:lnTo>
                    <a:pt x="1338" y="1714"/>
                  </a:lnTo>
                  <a:lnTo>
                    <a:pt x="1354" y="1658"/>
                  </a:lnTo>
                  <a:lnTo>
                    <a:pt x="1374" y="1543"/>
                  </a:lnTo>
                  <a:lnTo>
                    <a:pt x="1378" y="1413"/>
                  </a:lnTo>
                  <a:lnTo>
                    <a:pt x="1360" y="1196"/>
                  </a:lnTo>
                  <a:lnTo>
                    <a:pt x="1285" y="877"/>
                  </a:lnTo>
                  <a:lnTo>
                    <a:pt x="1195" y="666"/>
                  </a:lnTo>
                  <a:lnTo>
                    <a:pt x="1020" y="369"/>
                  </a:lnTo>
                  <a:lnTo>
                    <a:pt x="911" y="239"/>
                  </a:lnTo>
                  <a:lnTo>
                    <a:pt x="83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541600" y="5216400"/>
              <a:ext cx="363240" cy="220320"/>
            </a:xfrm>
            <a:custGeom>
              <a:avLst/>
              <a:gdLst/>
              <a:ahLst/>
              <a:rect l="l" t="t" r="r" b="b"/>
              <a:pathLst>
                <a:path w="2070" h="1986">
                  <a:moveTo>
                    <a:pt x="310" y="148"/>
                  </a:moveTo>
                  <a:lnTo>
                    <a:pt x="358" y="168"/>
                  </a:lnTo>
                  <a:lnTo>
                    <a:pt x="371" y="176"/>
                  </a:lnTo>
                  <a:lnTo>
                    <a:pt x="374" y="183"/>
                  </a:lnTo>
                  <a:lnTo>
                    <a:pt x="371" y="189"/>
                  </a:lnTo>
                  <a:lnTo>
                    <a:pt x="365" y="204"/>
                  </a:lnTo>
                  <a:lnTo>
                    <a:pt x="330" y="242"/>
                  </a:lnTo>
                  <a:lnTo>
                    <a:pt x="310" y="260"/>
                  </a:lnTo>
                  <a:lnTo>
                    <a:pt x="282" y="301"/>
                  </a:lnTo>
                  <a:lnTo>
                    <a:pt x="278" y="317"/>
                  </a:lnTo>
                  <a:lnTo>
                    <a:pt x="294" y="351"/>
                  </a:lnTo>
                  <a:lnTo>
                    <a:pt x="324" y="387"/>
                  </a:lnTo>
                  <a:lnTo>
                    <a:pt x="346" y="403"/>
                  </a:lnTo>
                  <a:lnTo>
                    <a:pt x="387" y="425"/>
                  </a:lnTo>
                  <a:lnTo>
                    <a:pt x="408" y="427"/>
                  </a:lnTo>
                  <a:lnTo>
                    <a:pt x="457" y="419"/>
                  </a:lnTo>
                  <a:lnTo>
                    <a:pt x="541" y="379"/>
                  </a:lnTo>
                  <a:lnTo>
                    <a:pt x="588" y="341"/>
                  </a:lnTo>
                  <a:lnTo>
                    <a:pt x="602" y="325"/>
                  </a:lnTo>
                  <a:lnTo>
                    <a:pt x="612" y="307"/>
                  </a:lnTo>
                  <a:lnTo>
                    <a:pt x="612" y="282"/>
                  </a:lnTo>
                  <a:lnTo>
                    <a:pt x="594" y="204"/>
                  </a:lnTo>
                  <a:lnTo>
                    <a:pt x="594" y="183"/>
                  </a:lnTo>
                  <a:lnTo>
                    <a:pt x="602" y="168"/>
                  </a:lnTo>
                  <a:lnTo>
                    <a:pt x="608" y="161"/>
                  </a:lnTo>
                  <a:lnTo>
                    <a:pt x="652" y="155"/>
                  </a:lnTo>
                  <a:lnTo>
                    <a:pt x="785" y="164"/>
                  </a:lnTo>
                  <a:lnTo>
                    <a:pt x="894" y="192"/>
                  </a:lnTo>
                  <a:lnTo>
                    <a:pt x="1010" y="242"/>
                  </a:lnTo>
                  <a:lnTo>
                    <a:pt x="1143" y="323"/>
                  </a:lnTo>
                  <a:lnTo>
                    <a:pt x="1437" y="549"/>
                  </a:lnTo>
                  <a:lnTo>
                    <a:pt x="1606" y="712"/>
                  </a:lnTo>
                  <a:lnTo>
                    <a:pt x="1731" y="883"/>
                  </a:lnTo>
                  <a:lnTo>
                    <a:pt x="1786" y="991"/>
                  </a:lnTo>
                  <a:lnTo>
                    <a:pt x="1817" y="1079"/>
                  </a:lnTo>
                  <a:lnTo>
                    <a:pt x="1826" y="1137"/>
                  </a:lnTo>
                  <a:lnTo>
                    <a:pt x="1811" y="1174"/>
                  </a:lnTo>
                  <a:lnTo>
                    <a:pt x="1795" y="1194"/>
                  </a:lnTo>
                  <a:lnTo>
                    <a:pt x="1671" y="1284"/>
                  </a:lnTo>
                  <a:lnTo>
                    <a:pt x="1310" y="1507"/>
                  </a:lnTo>
                  <a:lnTo>
                    <a:pt x="1067" y="1627"/>
                  </a:lnTo>
                  <a:lnTo>
                    <a:pt x="1001" y="1649"/>
                  </a:lnTo>
                  <a:lnTo>
                    <a:pt x="881" y="1671"/>
                  </a:lnTo>
                  <a:lnTo>
                    <a:pt x="775" y="1673"/>
                  </a:lnTo>
                  <a:lnTo>
                    <a:pt x="692" y="1686"/>
                  </a:lnTo>
                  <a:lnTo>
                    <a:pt x="658" y="1701"/>
                  </a:lnTo>
                  <a:lnTo>
                    <a:pt x="630" y="1723"/>
                  </a:lnTo>
                  <a:lnTo>
                    <a:pt x="594" y="1779"/>
                  </a:lnTo>
                  <a:lnTo>
                    <a:pt x="584" y="1814"/>
                  </a:lnTo>
                  <a:lnTo>
                    <a:pt x="582" y="1872"/>
                  </a:lnTo>
                  <a:lnTo>
                    <a:pt x="588" y="1896"/>
                  </a:lnTo>
                  <a:lnTo>
                    <a:pt x="602" y="1916"/>
                  </a:lnTo>
                  <a:lnTo>
                    <a:pt x="652" y="1946"/>
                  </a:lnTo>
                  <a:lnTo>
                    <a:pt x="729" y="1974"/>
                  </a:lnTo>
                  <a:lnTo>
                    <a:pt x="773" y="1984"/>
                  </a:lnTo>
                  <a:lnTo>
                    <a:pt x="868" y="1986"/>
                  </a:lnTo>
                  <a:lnTo>
                    <a:pt x="918" y="1980"/>
                  </a:lnTo>
                  <a:lnTo>
                    <a:pt x="1023" y="1946"/>
                  </a:lnTo>
                  <a:lnTo>
                    <a:pt x="1202" y="1854"/>
                  </a:lnTo>
                  <a:lnTo>
                    <a:pt x="1733" y="1503"/>
                  </a:lnTo>
                  <a:lnTo>
                    <a:pt x="2031" y="1250"/>
                  </a:lnTo>
                  <a:lnTo>
                    <a:pt x="2051" y="1224"/>
                  </a:lnTo>
                  <a:lnTo>
                    <a:pt x="2063" y="1196"/>
                  </a:lnTo>
                  <a:lnTo>
                    <a:pt x="2070" y="1162"/>
                  </a:lnTo>
                  <a:lnTo>
                    <a:pt x="2067" y="1125"/>
                  </a:lnTo>
                  <a:lnTo>
                    <a:pt x="2057" y="1079"/>
                  </a:lnTo>
                  <a:lnTo>
                    <a:pt x="1981" y="917"/>
                  </a:lnTo>
                  <a:lnTo>
                    <a:pt x="1808" y="688"/>
                  </a:lnTo>
                  <a:lnTo>
                    <a:pt x="1697" y="580"/>
                  </a:lnTo>
                  <a:lnTo>
                    <a:pt x="1359" y="319"/>
                  </a:lnTo>
                  <a:lnTo>
                    <a:pt x="1240" y="242"/>
                  </a:lnTo>
                  <a:lnTo>
                    <a:pt x="1060" y="155"/>
                  </a:lnTo>
                  <a:lnTo>
                    <a:pt x="674" y="22"/>
                  </a:lnTo>
                  <a:lnTo>
                    <a:pt x="519" y="0"/>
                  </a:lnTo>
                  <a:lnTo>
                    <a:pt x="263" y="22"/>
                  </a:lnTo>
                  <a:lnTo>
                    <a:pt x="167" y="44"/>
                  </a:lnTo>
                  <a:lnTo>
                    <a:pt x="103" y="68"/>
                  </a:lnTo>
                  <a:lnTo>
                    <a:pt x="71" y="86"/>
                  </a:lnTo>
                  <a:lnTo>
                    <a:pt x="47" y="112"/>
                  </a:lnTo>
                  <a:lnTo>
                    <a:pt x="25" y="142"/>
                  </a:lnTo>
                  <a:lnTo>
                    <a:pt x="4" y="211"/>
                  </a:lnTo>
                  <a:lnTo>
                    <a:pt x="0" y="242"/>
                  </a:lnTo>
                  <a:lnTo>
                    <a:pt x="4" y="267"/>
                  </a:lnTo>
                  <a:lnTo>
                    <a:pt x="16" y="295"/>
                  </a:lnTo>
                  <a:lnTo>
                    <a:pt x="31" y="313"/>
                  </a:lnTo>
                  <a:lnTo>
                    <a:pt x="47" y="325"/>
                  </a:lnTo>
                  <a:lnTo>
                    <a:pt x="65" y="329"/>
                  </a:lnTo>
                  <a:lnTo>
                    <a:pt x="90" y="325"/>
                  </a:lnTo>
                  <a:lnTo>
                    <a:pt x="111" y="317"/>
                  </a:lnTo>
                  <a:lnTo>
                    <a:pt x="131" y="297"/>
                  </a:lnTo>
                  <a:lnTo>
                    <a:pt x="137" y="282"/>
                  </a:lnTo>
                  <a:lnTo>
                    <a:pt x="139" y="263"/>
                  </a:lnTo>
                  <a:lnTo>
                    <a:pt x="139" y="239"/>
                  </a:lnTo>
                  <a:lnTo>
                    <a:pt x="143" y="214"/>
                  </a:lnTo>
                  <a:lnTo>
                    <a:pt x="143" y="189"/>
                  </a:lnTo>
                  <a:lnTo>
                    <a:pt x="155" y="152"/>
                  </a:lnTo>
                  <a:lnTo>
                    <a:pt x="167" y="140"/>
                  </a:lnTo>
                  <a:lnTo>
                    <a:pt x="185" y="134"/>
                  </a:lnTo>
                  <a:lnTo>
                    <a:pt x="278" y="140"/>
                  </a:lnTo>
                  <a:lnTo>
                    <a:pt x="31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03680" y="5408280"/>
              <a:ext cx="178920" cy="203760"/>
            </a:xfrm>
            <a:custGeom>
              <a:avLst/>
              <a:gdLst/>
              <a:ahLst/>
              <a:rect l="l" t="t" r="r" b="b"/>
              <a:pathLst>
                <a:path w="1023" h="1835">
                  <a:moveTo>
                    <a:pt x="803" y="0"/>
                  </a:moveTo>
                  <a:lnTo>
                    <a:pt x="779" y="0"/>
                  </a:lnTo>
                  <a:lnTo>
                    <a:pt x="751" y="10"/>
                  </a:lnTo>
                  <a:lnTo>
                    <a:pt x="717" y="28"/>
                  </a:lnTo>
                  <a:lnTo>
                    <a:pt x="270" y="416"/>
                  </a:lnTo>
                  <a:lnTo>
                    <a:pt x="127" y="561"/>
                  </a:lnTo>
                  <a:lnTo>
                    <a:pt x="93" y="605"/>
                  </a:lnTo>
                  <a:lnTo>
                    <a:pt x="28" y="719"/>
                  </a:lnTo>
                  <a:lnTo>
                    <a:pt x="6" y="787"/>
                  </a:lnTo>
                  <a:lnTo>
                    <a:pt x="0" y="884"/>
                  </a:lnTo>
                  <a:lnTo>
                    <a:pt x="6" y="940"/>
                  </a:lnTo>
                  <a:lnTo>
                    <a:pt x="13" y="964"/>
                  </a:lnTo>
                  <a:lnTo>
                    <a:pt x="53" y="1038"/>
                  </a:lnTo>
                  <a:lnTo>
                    <a:pt x="75" y="1064"/>
                  </a:lnTo>
                  <a:lnTo>
                    <a:pt x="137" y="1116"/>
                  </a:lnTo>
                  <a:lnTo>
                    <a:pt x="427" y="1287"/>
                  </a:lnTo>
                  <a:lnTo>
                    <a:pt x="556" y="1370"/>
                  </a:lnTo>
                  <a:lnTo>
                    <a:pt x="622" y="1423"/>
                  </a:lnTo>
                  <a:lnTo>
                    <a:pt x="634" y="1435"/>
                  </a:lnTo>
                  <a:lnTo>
                    <a:pt x="640" y="1451"/>
                  </a:lnTo>
                  <a:lnTo>
                    <a:pt x="640" y="1463"/>
                  </a:lnTo>
                  <a:lnTo>
                    <a:pt x="637" y="1479"/>
                  </a:lnTo>
                  <a:lnTo>
                    <a:pt x="624" y="1491"/>
                  </a:lnTo>
                  <a:lnTo>
                    <a:pt x="609" y="1504"/>
                  </a:lnTo>
                  <a:lnTo>
                    <a:pt x="576" y="1522"/>
                  </a:lnTo>
                  <a:lnTo>
                    <a:pt x="538" y="1534"/>
                  </a:lnTo>
                  <a:lnTo>
                    <a:pt x="520" y="1538"/>
                  </a:lnTo>
                  <a:lnTo>
                    <a:pt x="433" y="1516"/>
                  </a:lnTo>
                  <a:lnTo>
                    <a:pt x="411" y="1513"/>
                  </a:lnTo>
                  <a:lnTo>
                    <a:pt x="396" y="1513"/>
                  </a:lnTo>
                  <a:lnTo>
                    <a:pt x="381" y="1516"/>
                  </a:lnTo>
                  <a:lnTo>
                    <a:pt x="371" y="1526"/>
                  </a:lnTo>
                  <a:lnTo>
                    <a:pt x="353" y="1560"/>
                  </a:lnTo>
                  <a:lnTo>
                    <a:pt x="346" y="1600"/>
                  </a:lnTo>
                  <a:lnTo>
                    <a:pt x="346" y="1634"/>
                  </a:lnTo>
                  <a:lnTo>
                    <a:pt x="353" y="1646"/>
                  </a:lnTo>
                  <a:lnTo>
                    <a:pt x="362" y="1652"/>
                  </a:lnTo>
                  <a:lnTo>
                    <a:pt x="375" y="1656"/>
                  </a:lnTo>
                  <a:lnTo>
                    <a:pt x="393" y="1658"/>
                  </a:lnTo>
                  <a:lnTo>
                    <a:pt x="455" y="1652"/>
                  </a:lnTo>
                  <a:lnTo>
                    <a:pt x="572" y="1628"/>
                  </a:lnTo>
                  <a:lnTo>
                    <a:pt x="590" y="1622"/>
                  </a:lnTo>
                  <a:lnTo>
                    <a:pt x="622" y="1614"/>
                  </a:lnTo>
                  <a:lnTo>
                    <a:pt x="630" y="1618"/>
                  </a:lnTo>
                  <a:lnTo>
                    <a:pt x="637" y="1624"/>
                  </a:lnTo>
                  <a:lnTo>
                    <a:pt x="637" y="1634"/>
                  </a:lnTo>
                  <a:lnTo>
                    <a:pt x="634" y="1656"/>
                  </a:lnTo>
                  <a:lnTo>
                    <a:pt x="622" y="1683"/>
                  </a:lnTo>
                  <a:lnTo>
                    <a:pt x="602" y="1702"/>
                  </a:lnTo>
                  <a:lnTo>
                    <a:pt x="590" y="1708"/>
                  </a:lnTo>
                  <a:lnTo>
                    <a:pt x="548" y="1714"/>
                  </a:lnTo>
                  <a:lnTo>
                    <a:pt x="522" y="1714"/>
                  </a:lnTo>
                  <a:lnTo>
                    <a:pt x="479" y="1720"/>
                  </a:lnTo>
                  <a:lnTo>
                    <a:pt x="463" y="1724"/>
                  </a:lnTo>
                  <a:lnTo>
                    <a:pt x="455" y="1730"/>
                  </a:lnTo>
                  <a:lnTo>
                    <a:pt x="451" y="1739"/>
                  </a:lnTo>
                  <a:lnTo>
                    <a:pt x="455" y="1755"/>
                  </a:lnTo>
                  <a:lnTo>
                    <a:pt x="461" y="1770"/>
                  </a:lnTo>
                  <a:lnTo>
                    <a:pt x="470" y="1785"/>
                  </a:lnTo>
                  <a:lnTo>
                    <a:pt x="495" y="1817"/>
                  </a:lnTo>
                  <a:lnTo>
                    <a:pt x="507" y="1826"/>
                  </a:lnTo>
                  <a:lnTo>
                    <a:pt x="520" y="1832"/>
                  </a:lnTo>
                  <a:lnTo>
                    <a:pt x="532" y="1835"/>
                  </a:lnTo>
                  <a:lnTo>
                    <a:pt x="548" y="1832"/>
                  </a:lnTo>
                  <a:lnTo>
                    <a:pt x="578" y="1823"/>
                  </a:lnTo>
                  <a:lnTo>
                    <a:pt x="609" y="1807"/>
                  </a:lnTo>
                  <a:lnTo>
                    <a:pt x="640" y="1785"/>
                  </a:lnTo>
                  <a:lnTo>
                    <a:pt x="702" y="1730"/>
                  </a:lnTo>
                  <a:lnTo>
                    <a:pt x="751" y="1664"/>
                  </a:lnTo>
                  <a:lnTo>
                    <a:pt x="757" y="1649"/>
                  </a:lnTo>
                  <a:lnTo>
                    <a:pt x="761" y="1630"/>
                  </a:lnTo>
                  <a:lnTo>
                    <a:pt x="767" y="1566"/>
                  </a:lnTo>
                  <a:lnTo>
                    <a:pt x="779" y="1544"/>
                  </a:lnTo>
                  <a:lnTo>
                    <a:pt x="803" y="1532"/>
                  </a:lnTo>
                  <a:lnTo>
                    <a:pt x="874" y="1526"/>
                  </a:lnTo>
                  <a:lnTo>
                    <a:pt x="1005" y="1528"/>
                  </a:lnTo>
                  <a:lnTo>
                    <a:pt x="1014" y="1522"/>
                  </a:lnTo>
                  <a:lnTo>
                    <a:pt x="1020" y="1516"/>
                  </a:lnTo>
                  <a:lnTo>
                    <a:pt x="1023" y="1504"/>
                  </a:lnTo>
                  <a:lnTo>
                    <a:pt x="1023" y="1460"/>
                  </a:lnTo>
                  <a:lnTo>
                    <a:pt x="1020" y="1438"/>
                  </a:lnTo>
                  <a:lnTo>
                    <a:pt x="1014" y="1413"/>
                  </a:lnTo>
                  <a:lnTo>
                    <a:pt x="1005" y="1392"/>
                  </a:lnTo>
                  <a:lnTo>
                    <a:pt x="995" y="1377"/>
                  </a:lnTo>
                  <a:lnTo>
                    <a:pt x="983" y="1367"/>
                  </a:lnTo>
                  <a:lnTo>
                    <a:pt x="968" y="1367"/>
                  </a:lnTo>
                  <a:lnTo>
                    <a:pt x="949" y="1373"/>
                  </a:lnTo>
                  <a:lnTo>
                    <a:pt x="881" y="1413"/>
                  </a:lnTo>
                  <a:lnTo>
                    <a:pt x="835" y="1432"/>
                  </a:lnTo>
                  <a:lnTo>
                    <a:pt x="816" y="1432"/>
                  </a:lnTo>
                  <a:lnTo>
                    <a:pt x="801" y="1426"/>
                  </a:lnTo>
                  <a:lnTo>
                    <a:pt x="785" y="1413"/>
                  </a:lnTo>
                  <a:lnTo>
                    <a:pt x="773" y="1401"/>
                  </a:lnTo>
                  <a:lnTo>
                    <a:pt x="695" y="1303"/>
                  </a:lnTo>
                  <a:lnTo>
                    <a:pt x="463" y="1113"/>
                  </a:lnTo>
                  <a:lnTo>
                    <a:pt x="368" y="1050"/>
                  </a:lnTo>
                  <a:lnTo>
                    <a:pt x="334" y="1032"/>
                  </a:lnTo>
                  <a:lnTo>
                    <a:pt x="260" y="968"/>
                  </a:lnTo>
                  <a:lnTo>
                    <a:pt x="232" y="924"/>
                  </a:lnTo>
                  <a:lnTo>
                    <a:pt x="217" y="880"/>
                  </a:lnTo>
                  <a:lnTo>
                    <a:pt x="214" y="837"/>
                  </a:lnTo>
                  <a:lnTo>
                    <a:pt x="223" y="791"/>
                  </a:lnTo>
                  <a:lnTo>
                    <a:pt x="232" y="765"/>
                  </a:lnTo>
                  <a:lnTo>
                    <a:pt x="276" y="695"/>
                  </a:lnTo>
                  <a:lnTo>
                    <a:pt x="318" y="645"/>
                  </a:lnTo>
                  <a:lnTo>
                    <a:pt x="403" y="568"/>
                  </a:lnTo>
                  <a:lnTo>
                    <a:pt x="609" y="428"/>
                  </a:lnTo>
                  <a:lnTo>
                    <a:pt x="902" y="267"/>
                  </a:lnTo>
                  <a:lnTo>
                    <a:pt x="918" y="251"/>
                  </a:lnTo>
                  <a:lnTo>
                    <a:pt x="930" y="236"/>
                  </a:lnTo>
                  <a:lnTo>
                    <a:pt x="934" y="223"/>
                  </a:lnTo>
                  <a:lnTo>
                    <a:pt x="936" y="208"/>
                  </a:lnTo>
                  <a:lnTo>
                    <a:pt x="934" y="195"/>
                  </a:lnTo>
                  <a:lnTo>
                    <a:pt x="890" y="121"/>
                  </a:lnTo>
                  <a:lnTo>
                    <a:pt x="881" y="99"/>
                  </a:lnTo>
                  <a:lnTo>
                    <a:pt x="856" y="50"/>
                  </a:lnTo>
                  <a:lnTo>
                    <a:pt x="841" y="28"/>
                  </a:lnTo>
                  <a:lnTo>
                    <a:pt x="825" y="10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543760" y="5581080"/>
              <a:ext cx="169920" cy="258120"/>
            </a:xfrm>
            <a:custGeom>
              <a:avLst/>
              <a:gdLst/>
              <a:ahLst/>
              <a:rect l="l" t="t" r="r" b="b"/>
              <a:pathLst>
                <a:path w="970" h="2324">
                  <a:moveTo>
                    <a:pt x="304" y="96"/>
                  </a:moveTo>
                  <a:lnTo>
                    <a:pt x="260" y="34"/>
                  </a:lnTo>
                  <a:lnTo>
                    <a:pt x="236" y="16"/>
                  </a:lnTo>
                  <a:lnTo>
                    <a:pt x="208" y="6"/>
                  </a:lnTo>
                  <a:lnTo>
                    <a:pt x="177" y="0"/>
                  </a:lnTo>
                  <a:lnTo>
                    <a:pt x="147" y="0"/>
                  </a:lnTo>
                  <a:lnTo>
                    <a:pt x="115" y="6"/>
                  </a:lnTo>
                  <a:lnTo>
                    <a:pt x="87" y="16"/>
                  </a:lnTo>
                  <a:lnTo>
                    <a:pt x="63" y="28"/>
                  </a:lnTo>
                  <a:lnTo>
                    <a:pt x="47" y="44"/>
                  </a:lnTo>
                  <a:lnTo>
                    <a:pt x="34" y="62"/>
                  </a:lnTo>
                  <a:lnTo>
                    <a:pt x="26" y="86"/>
                  </a:lnTo>
                  <a:lnTo>
                    <a:pt x="16" y="146"/>
                  </a:lnTo>
                  <a:lnTo>
                    <a:pt x="20" y="295"/>
                  </a:lnTo>
                  <a:lnTo>
                    <a:pt x="41" y="387"/>
                  </a:lnTo>
                  <a:lnTo>
                    <a:pt x="229" y="955"/>
                  </a:lnTo>
                  <a:lnTo>
                    <a:pt x="242" y="1029"/>
                  </a:lnTo>
                  <a:lnTo>
                    <a:pt x="242" y="1097"/>
                  </a:lnTo>
                  <a:lnTo>
                    <a:pt x="161" y="1401"/>
                  </a:lnTo>
                  <a:lnTo>
                    <a:pt x="125" y="1569"/>
                  </a:lnTo>
                  <a:lnTo>
                    <a:pt x="115" y="1788"/>
                  </a:lnTo>
                  <a:lnTo>
                    <a:pt x="103" y="1866"/>
                  </a:lnTo>
                  <a:lnTo>
                    <a:pt x="93" y="1897"/>
                  </a:lnTo>
                  <a:lnTo>
                    <a:pt x="78" y="1928"/>
                  </a:lnTo>
                  <a:lnTo>
                    <a:pt x="44" y="1984"/>
                  </a:lnTo>
                  <a:lnTo>
                    <a:pt x="28" y="2005"/>
                  </a:lnTo>
                  <a:lnTo>
                    <a:pt x="4" y="2051"/>
                  </a:lnTo>
                  <a:lnTo>
                    <a:pt x="0" y="2071"/>
                  </a:lnTo>
                  <a:lnTo>
                    <a:pt x="8" y="2111"/>
                  </a:lnTo>
                  <a:lnTo>
                    <a:pt x="16" y="2129"/>
                  </a:lnTo>
                  <a:lnTo>
                    <a:pt x="28" y="2145"/>
                  </a:lnTo>
                  <a:lnTo>
                    <a:pt x="60" y="2173"/>
                  </a:lnTo>
                  <a:lnTo>
                    <a:pt x="81" y="2185"/>
                  </a:lnTo>
                  <a:lnTo>
                    <a:pt x="103" y="2191"/>
                  </a:lnTo>
                  <a:lnTo>
                    <a:pt x="131" y="2195"/>
                  </a:lnTo>
                  <a:lnTo>
                    <a:pt x="320" y="2161"/>
                  </a:lnTo>
                  <a:lnTo>
                    <a:pt x="399" y="2163"/>
                  </a:lnTo>
                  <a:lnTo>
                    <a:pt x="437" y="2175"/>
                  </a:lnTo>
                  <a:lnTo>
                    <a:pt x="477" y="2195"/>
                  </a:lnTo>
                  <a:lnTo>
                    <a:pt x="628" y="2294"/>
                  </a:lnTo>
                  <a:lnTo>
                    <a:pt x="662" y="2312"/>
                  </a:lnTo>
                  <a:lnTo>
                    <a:pt x="696" y="2322"/>
                  </a:lnTo>
                  <a:lnTo>
                    <a:pt x="730" y="2324"/>
                  </a:lnTo>
                  <a:lnTo>
                    <a:pt x="761" y="2322"/>
                  </a:lnTo>
                  <a:lnTo>
                    <a:pt x="823" y="2303"/>
                  </a:lnTo>
                  <a:lnTo>
                    <a:pt x="900" y="2263"/>
                  </a:lnTo>
                  <a:lnTo>
                    <a:pt x="918" y="2247"/>
                  </a:lnTo>
                  <a:lnTo>
                    <a:pt x="950" y="2213"/>
                  </a:lnTo>
                  <a:lnTo>
                    <a:pt x="962" y="2195"/>
                  </a:lnTo>
                  <a:lnTo>
                    <a:pt x="968" y="2175"/>
                  </a:lnTo>
                  <a:lnTo>
                    <a:pt x="970" y="2157"/>
                  </a:lnTo>
                  <a:lnTo>
                    <a:pt x="970" y="2139"/>
                  </a:lnTo>
                  <a:lnTo>
                    <a:pt x="962" y="2123"/>
                  </a:lnTo>
                  <a:lnTo>
                    <a:pt x="946" y="2107"/>
                  </a:lnTo>
                  <a:lnTo>
                    <a:pt x="922" y="2095"/>
                  </a:lnTo>
                  <a:lnTo>
                    <a:pt x="795" y="2067"/>
                  </a:lnTo>
                  <a:lnTo>
                    <a:pt x="526" y="2033"/>
                  </a:lnTo>
                  <a:lnTo>
                    <a:pt x="449" y="2030"/>
                  </a:lnTo>
                  <a:lnTo>
                    <a:pt x="350" y="2015"/>
                  </a:lnTo>
                  <a:lnTo>
                    <a:pt x="304" y="1996"/>
                  </a:lnTo>
                  <a:lnTo>
                    <a:pt x="286" y="1987"/>
                  </a:lnTo>
                  <a:lnTo>
                    <a:pt x="270" y="1974"/>
                  </a:lnTo>
                  <a:lnTo>
                    <a:pt x="260" y="1962"/>
                  </a:lnTo>
                  <a:lnTo>
                    <a:pt x="251" y="1946"/>
                  </a:lnTo>
                  <a:lnTo>
                    <a:pt x="245" y="1928"/>
                  </a:lnTo>
                  <a:lnTo>
                    <a:pt x="242" y="1906"/>
                  </a:lnTo>
                  <a:lnTo>
                    <a:pt x="245" y="1840"/>
                  </a:lnTo>
                  <a:lnTo>
                    <a:pt x="298" y="1652"/>
                  </a:lnTo>
                  <a:lnTo>
                    <a:pt x="459" y="949"/>
                  </a:lnTo>
                  <a:lnTo>
                    <a:pt x="465" y="750"/>
                  </a:lnTo>
                  <a:lnTo>
                    <a:pt x="453" y="630"/>
                  </a:lnTo>
                  <a:lnTo>
                    <a:pt x="381" y="297"/>
                  </a:lnTo>
                  <a:lnTo>
                    <a:pt x="30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739240" y="5577840"/>
              <a:ext cx="145440" cy="318240"/>
            </a:xfrm>
            <a:custGeom>
              <a:avLst/>
              <a:gdLst/>
              <a:ahLst/>
              <a:rect l="l" t="t" r="r" b="b"/>
              <a:pathLst>
                <a:path w="831" h="2864">
                  <a:moveTo>
                    <a:pt x="117" y="2414"/>
                  </a:moveTo>
                  <a:lnTo>
                    <a:pt x="102" y="2434"/>
                  </a:lnTo>
                  <a:lnTo>
                    <a:pt x="24" y="2498"/>
                  </a:lnTo>
                  <a:lnTo>
                    <a:pt x="12" y="2510"/>
                  </a:lnTo>
                  <a:lnTo>
                    <a:pt x="6" y="2526"/>
                  </a:lnTo>
                  <a:lnTo>
                    <a:pt x="0" y="2560"/>
                  </a:lnTo>
                  <a:lnTo>
                    <a:pt x="2" y="2594"/>
                  </a:lnTo>
                  <a:lnTo>
                    <a:pt x="6" y="2613"/>
                  </a:lnTo>
                  <a:lnTo>
                    <a:pt x="28" y="2644"/>
                  </a:lnTo>
                  <a:lnTo>
                    <a:pt x="42" y="2657"/>
                  </a:lnTo>
                  <a:lnTo>
                    <a:pt x="92" y="2675"/>
                  </a:lnTo>
                  <a:lnTo>
                    <a:pt x="235" y="2693"/>
                  </a:lnTo>
                  <a:lnTo>
                    <a:pt x="302" y="2713"/>
                  </a:lnTo>
                  <a:lnTo>
                    <a:pt x="334" y="2727"/>
                  </a:lnTo>
                  <a:lnTo>
                    <a:pt x="454" y="2817"/>
                  </a:lnTo>
                  <a:lnTo>
                    <a:pt x="515" y="2851"/>
                  </a:lnTo>
                  <a:lnTo>
                    <a:pt x="543" y="2861"/>
                  </a:lnTo>
                  <a:lnTo>
                    <a:pt x="574" y="2864"/>
                  </a:lnTo>
                  <a:lnTo>
                    <a:pt x="608" y="2861"/>
                  </a:lnTo>
                  <a:lnTo>
                    <a:pt x="676" y="2842"/>
                  </a:lnTo>
                  <a:lnTo>
                    <a:pt x="707" y="2830"/>
                  </a:lnTo>
                  <a:lnTo>
                    <a:pt x="759" y="2799"/>
                  </a:lnTo>
                  <a:lnTo>
                    <a:pt x="775" y="2787"/>
                  </a:lnTo>
                  <a:lnTo>
                    <a:pt x="787" y="2771"/>
                  </a:lnTo>
                  <a:lnTo>
                    <a:pt x="793" y="2755"/>
                  </a:lnTo>
                  <a:lnTo>
                    <a:pt x="797" y="2739"/>
                  </a:lnTo>
                  <a:lnTo>
                    <a:pt x="797" y="2721"/>
                  </a:lnTo>
                  <a:lnTo>
                    <a:pt x="785" y="2685"/>
                  </a:lnTo>
                  <a:lnTo>
                    <a:pt x="772" y="2669"/>
                  </a:lnTo>
                  <a:lnTo>
                    <a:pt x="757" y="2657"/>
                  </a:lnTo>
                  <a:lnTo>
                    <a:pt x="704" y="2637"/>
                  </a:lnTo>
                  <a:lnTo>
                    <a:pt x="670" y="2631"/>
                  </a:lnTo>
                  <a:lnTo>
                    <a:pt x="515" y="2610"/>
                  </a:lnTo>
                  <a:lnTo>
                    <a:pt x="438" y="2579"/>
                  </a:lnTo>
                  <a:lnTo>
                    <a:pt x="395" y="2551"/>
                  </a:lnTo>
                  <a:lnTo>
                    <a:pt x="376" y="2536"/>
                  </a:lnTo>
                  <a:lnTo>
                    <a:pt x="348" y="2502"/>
                  </a:lnTo>
                  <a:lnTo>
                    <a:pt x="334" y="2458"/>
                  </a:lnTo>
                  <a:lnTo>
                    <a:pt x="336" y="2386"/>
                  </a:lnTo>
                  <a:lnTo>
                    <a:pt x="342" y="2358"/>
                  </a:lnTo>
                  <a:lnTo>
                    <a:pt x="376" y="2257"/>
                  </a:lnTo>
                  <a:lnTo>
                    <a:pt x="417" y="2169"/>
                  </a:lnTo>
                  <a:lnTo>
                    <a:pt x="531" y="1965"/>
                  </a:lnTo>
                  <a:lnTo>
                    <a:pt x="580" y="1838"/>
                  </a:lnTo>
                  <a:lnTo>
                    <a:pt x="686" y="1432"/>
                  </a:lnTo>
                  <a:lnTo>
                    <a:pt x="738" y="1150"/>
                  </a:lnTo>
                  <a:lnTo>
                    <a:pt x="831" y="341"/>
                  </a:lnTo>
                  <a:lnTo>
                    <a:pt x="825" y="186"/>
                  </a:lnTo>
                  <a:lnTo>
                    <a:pt x="805" y="108"/>
                  </a:lnTo>
                  <a:lnTo>
                    <a:pt x="793" y="80"/>
                  </a:lnTo>
                  <a:lnTo>
                    <a:pt x="763" y="40"/>
                  </a:lnTo>
                  <a:lnTo>
                    <a:pt x="729" y="12"/>
                  </a:lnTo>
                  <a:lnTo>
                    <a:pt x="707" y="4"/>
                  </a:lnTo>
                  <a:lnTo>
                    <a:pt x="682" y="0"/>
                  </a:lnTo>
                  <a:lnTo>
                    <a:pt x="658" y="0"/>
                  </a:lnTo>
                  <a:lnTo>
                    <a:pt x="608" y="16"/>
                  </a:lnTo>
                  <a:lnTo>
                    <a:pt x="584" y="32"/>
                  </a:lnTo>
                  <a:lnTo>
                    <a:pt x="562" y="54"/>
                  </a:lnTo>
                  <a:lnTo>
                    <a:pt x="521" y="118"/>
                  </a:lnTo>
                  <a:lnTo>
                    <a:pt x="469" y="261"/>
                  </a:lnTo>
                  <a:lnTo>
                    <a:pt x="454" y="317"/>
                  </a:lnTo>
                  <a:lnTo>
                    <a:pt x="426" y="481"/>
                  </a:lnTo>
                  <a:lnTo>
                    <a:pt x="454" y="1379"/>
                  </a:lnTo>
                  <a:lnTo>
                    <a:pt x="445" y="1473"/>
                  </a:lnTo>
                  <a:lnTo>
                    <a:pt x="420" y="1537"/>
                  </a:lnTo>
                  <a:lnTo>
                    <a:pt x="374" y="1609"/>
                  </a:lnTo>
                  <a:lnTo>
                    <a:pt x="348" y="1661"/>
                  </a:lnTo>
                  <a:lnTo>
                    <a:pt x="189" y="2263"/>
                  </a:lnTo>
                  <a:lnTo>
                    <a:pt x="142" y="2372"/>
                  </a:lnTo>
                  <a:lnTo>
                    <a:pt x="117" y="2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20560" y="4129200"/>
            <a:ext cx="247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ordinates &amp; trains appointed Trusted Agent(s) regarding their responsib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1451520" y="3647160"/>
            <a:ext cx="576360" cy="355680"/>
          </a:xfrm>
          <a:prstGeom prst="rightArrow">
            <a:avLst>
              <a:gd name="adj1" fmla="val 50000"/>
              <a:gd name="adj2" fmla="val 405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3314520" y="3214800"/>
            <a:ext cx="12600" cy="300024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3416040" y="3233880"/>
            <a:ext cx="5613480" cy="237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5878440"/>
            <a:ext cx="24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ssists Army customers with various PKI problems &amp; iss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1483560" y="5444280"/>
            <a:ext cx="537840" cy="355680"/>
          </a:xfrm>
          <a:prstGeom prst="rightArrow">
            <a:avLst>
              <a:gd name="adj1" fmla="val 50000"/>
              <a:gd name="adj2" fmla="val 3780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286A-9380-4AEE-94AD-1626F9CCB77B}" type="slidenum">
              <a:t>22</a:t>
            </a:fld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63360" y="1328760"/>
            <a:ext cx="5803920" cy="5119920"/>
            <a:chOff x="63360" y="1328760"/>
            <a:chExt cx="5803920" cy="5119920"/>
          </a:xfrm>
        </p:grpSpPr>
        <p:grpSp>
          <p:nvGrpSpPr>
            <p:cNvPr id="610" name=""/>
            <p:cNvGrpSpPr/>
            <p:nvPr/>
          </p:nvGrpSpPr>
          <p:grpSpPr>
            <a:xfrm>
              <a:off x="63360" y="1328760"/>
              <a:ext cx="5803920" cy="309240"/>
              <a:chOff x="63360" y="1328760"/>
              <a:chExt cx="5803920" cy="30924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3360" y="1328760"/>
                <a:ext cx="5803920" cy="294480"/>
                <a:chOff x="63360" y="1328760"/>
                <a:chExt cx="5803920" cy="2944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63360" y="132876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2540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18924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5344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0780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77164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33404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770720" y="136152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3360" y="1861920"/>
              <a:ext cx="5803920" cy="309240"/>
              <a:chOff x="63360" y="1861920"/>
              <a:chExt cx="5803920" cy="30924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3360" y="1861920"/>
                <a:ext cx="5803920" cy="294480"/>
                <a:chOff x="63360" y="1861920"/>
                <a:chExt cx="5803920" cy="2944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3360" y="186192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O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62540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18924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75344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0780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77164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33404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4770720" y="189468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3360" y="2396520"/>
              <a:ext cx="5803920" cy="309240"/>
              <a:chOff x="63360" y="2396520"/>
              <a:chExt cx="5803920" cy="309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63360" y="2396520"/>
                <a:ext cx="5803920" cy="294480"/>
                <a:chOff x="63360" y="2396520"/>
                <a:chExt cx="5803920" cy="2944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3360" y="239652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B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62540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18924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5344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20780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77164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33404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4770720" y="242928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63360" y="2931120"/>
              <a:ext cx="5803920" cy="310680"/>
              <a:chOff x="63360" y="2931120"/>
              <a:chExt cx="5803920" cy="31068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63360" y="2931120"/>
                <a:ext cx="5803920" cy="294120"/>
                <a:chOff x="63360" y="2931120"/>
                <a:chExt cx="5803920" cy="2941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3360" y="2931120"/>
                  <a:ext cx="111348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H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2540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18924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75344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20780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77164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33404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4770720" y="296532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3360" y="6139080"/>
              <a:ext cx="5803560" cy="309600"/>
              <a:chOff x="63360" y="6139080"/>
              <a:chExt cx="5803560" cy="309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3360" y="61390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ther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25760" y="61390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53440" y="61390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07800" y="62856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82800" y="62856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825080" y="61722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3360" y="3465720"/>
              <a:ext cx="5803560" cy="309600"/>
              <a:chOff x="63360" y="3465720"/>
              <a:chExt cx="5803560" cy="3096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60" y="3465720"/>
                <a:ext cx="111384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A &amp; NMJI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25760" y="346572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53440" y="346572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07800" y="361224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2800" y="361224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25080" y="349884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63360" y="4000680"/>
              <a:ext cx="5803560" cy="307800"/>
              <a:chOff x="63360" y="4000680"/>
              <a:chExt cx="5803560" cy="307800"/>
            </a:xfrm>
          </p:grpSpPr>
          <p:sp>
            <p:nvSpPr>
              <p:cNvPr id="665" name=""/>
              <p:cNvSpPr/>
              <p:nvPr/>
            </p:nvSpPr>
            <p:spPr>
              <a:xfrm>
                <a:off x="63360" y="4000680"/>
                <a:ext cx="111384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S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625760" y="400068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P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753440" y="400068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07800" y="414684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82800" y="414684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25080" y="40320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3360" y="4535280"/>
              <a:ext cx="5803560" cy="309600"/>
              <a:chOff x="63360" y="4535280"/>
              <a:chExt cx="5803560" cy="309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3360" y="45352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IM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5760" y="45352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S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53440" y="45352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07800" y="46818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82800" y="46818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825080" y="45684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3360" y="5069880"/>
              <a:ext cx="5803560" cy="309600"/>
              <a:chOff x="63360" y="5069880"/>
              <a:chExt cx="5803560" cy="309600"/>
            </a:xfrm>
          </p:grpSpPr>
          <p:sp>
            <p:nvSpPr>
              <p:cNvPr id="679" name=""/>
              <p:cNvSpPr/>
              <p:nvPr/>
            </p:nvSpPr>
            <p:spPr>
              <a:xfrm>
                <a:off x="63360" y="5069880"/>
                <a:ext cx="111384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and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5760" y="5069880"/>
                <a:ext cx="111348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53440" y="5069880"/>
                <a:ext cx="111348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207800" y="52164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82800" y="52164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25080" y="51030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3360" y="5604480"/>
              <a:ext cx="5803560" cy="309600"/>
              <a:chOff x="63360" y="5604480"/>
              <a:chExt cx="5803560" cy="309600"/>
            </a:xfrm>
          </p:grpSpPr>
          <p:sp>
            <p:nvSpPr>
              <p:cNvPr id="686" name=""/>
              <p:cNvSpPr/>
              <p:nvPr/>
            </p:nvSpPr>
            <p:spPr>
              <a:xfrm>
                <a:off x="63360" y="56044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BI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5760" y="56044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BIS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53440" y="56044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07800" y="57510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82800" y="57510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825080" y="56376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-38160" y="6462720"/>
            <a:ext cx="7188120" cy="608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3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IMAD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Intelligence Message Automated Dissemination System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SEP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IGINT End Products;             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NE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National Exploitation System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AG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DSSCS Addressee Group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AIG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Addressee Indicating Grou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Notes: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CI only;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Collateral Only;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Other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CI &amp; Collater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24480" y="1463760"/>
            <a:ext cx="2590920" cy="38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Verdana"/>
              </a:rPr>
              <a:t>To receive Intelligence Message Traffic, Army units mus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Activate / Update their Compartmented Address Book (CAB) en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Activate / Update their Statement of Intelligence Interest (SI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Send request to DA IIS to activate IMADS profile, SEP profile, NES profile, and others a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A IIS POC:  Benito Torres or Tom Link @ DSN: 235-1524/22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560" y="65160"/>
            <a:ext cx="8380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telligence Message Traffic Flow to Army Un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10922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6ADC-59DB-4072-88E0-45008FD5E638}" type="slidenum">
              <a:t>23</a:t>
            </a:fld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143000" y="1974960"/>
            <a:ext cx="7318440" cy="379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06360" y="4548240"/>
            <a:ext cx="1400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0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JWICS </a:t>
            </a:r>
            <a:br>
              <a:rPr sz="1800"/>
            </a:b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&amp;</a:t>
            </a:r>
            <a:br>
              <a:rPr sz="1800"/>
            </a:b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Stone G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93760" y="3481560"/>
            <a:ext cx="146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IP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&amp;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ENTRIX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68560" y="2184480"/>
            <a:ext cx="1463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6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NIP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48600" y="2000160"/>
            <a:ext cx="1120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32480" y="2000160"/>
            <a:ext cx="1461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86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68720" y="2000160"/>
            <a:ext cx="146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 DPM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19360" y="2025720"/>
            <a:ext cx="1461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K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8880" y="2352600"/>
            <a:ext cx="74952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1520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1356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65960" y="2521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37520" y="2384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86720" y="3137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86720" y="3081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08960" y="305280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32840" y="2895480"/>
            <a:ext cx="16164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50120" y="2401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50120" y="2401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50120" y="2489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50120" y="2571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50120" y="2655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50120" y="2739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351560" y="242244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66040" y="242244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13480" y="2503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37320" y="302256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650000" y="3024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85200" y="2616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648320"/>
            <a:ext cx="74916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19920" y="5397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8280" y="5397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70680" y="481644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41880" y="4680000"/>
            <a:ext cx="15264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91440" y="543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91440" y="5376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13320" y="53481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37200" y="51912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54840" y="4697280"/>
            <a:ext cx="12672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54840" y="4697280"/>
            <a:ext cx="126720" cy="3204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54840" y="4784760"/>
            <a:ext cx="12672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54840" y="486720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54840" y="495144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54840" y="503568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56280" y="471816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170760" y="471816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18200" y="47991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42040" y="531828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54720" y="53193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89560" y="49118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19720" y="3495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9568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9440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546440" y="3664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18000" y="3527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67200" y="4280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67200" y="4224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89440" y="4195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13320" y="4038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30600" y="3544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30600" y="3544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30600" y="3632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30600" y="3714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30600" y="3798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30600" y="3882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532400" y="3565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46520" y="3565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94320" y="3646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18160" y="4165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830840" y="4167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65680" y="3759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2352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9568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9440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46440" y="2521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18000" y="2384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7200" y="3137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67200" y="3081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89440" y="3052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13320" y="2895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30600" y="2401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530600" y="2401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30600" y="2489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30600" y="2571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30600" y="2655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30600" y="2739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532400" y="2422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46520" y="2422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4320" y="2503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18160" y="3022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830840" y="3024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65680" y="2616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8120" y="3571920"/>
            <a:ext cx="74916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43210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22800" y="43210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74840" y="374004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46400" y="3603600"/>
            <a:ext cx="15228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95600" y="435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5600" y="43005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17840" y="427212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41720" y="41148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59000" y="3621240"/>
            <a:ext cx="127080" cy="680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59000" y="362124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59000" y="370836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59000" y="379080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59000" y="387504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59000" y="395928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160800" y="364176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74920" y="364176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22720" y="37227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46560" y="424188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459240" y="424332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4080" y="38354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67280" y="3495600"/>
            <a:ext cx="74952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4196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94360" y="3664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65920" y="3527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15120" y="4280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15120" y="4224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37360" y="419580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961240" y="4038480"/>
            <a:ext cx="16164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78520" y="3544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978520" y="3544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78520" y="3632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978520" y="3714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78520" y="3798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78520" y="3882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979960" y="356544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440" y="356544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041880" y="3646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65720" y="416556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6278400" y="4167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13600" y="3759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66880" y="1960560"/>
            <a:ext cx="7920" cy="37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1960560"/>
            <a:ext cx="1800" cy="379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3433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6360" bIns="-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4863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6360" bIns="-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00440" y="6019920"/>
            <a:ext cx="4267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ith Access to NS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60920" y="1960560"/>
            <a:ext cx="1800" cy="379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81560" y="4638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57880" y="5388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56240" y="5388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08640" y="4807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79840" y="4670280"/>
            <a:ext cx="15264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29040" y="542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29040" y="5367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51280" y="5338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75160" y="5181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92800" y="4687920"/>
            <a:ext cx="12672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2800" y="4687920"/>
            <a:ext cx="12672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2800" y="4775040"/>
            <a:ext cx="12672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492800" y="485784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2800" y="494172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92800" y="502596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494240" y="4708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08360" y="4708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56160" y="4789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80000" y="5308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792680" y="5310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40120" y="4921200"/>
            <a:ext cx="34164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2362320"/>
            <a:ext cx="74952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0720" y="3111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59080" y="3111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11480" y="253044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83040" y="2394000"/>
            <a:ext cx="15228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432240" y="314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32240" y="3090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354480" y="306216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78000" y="29052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95640" y="241128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95640" y="2411280"/>
            <a:ext cx="127080" cy="3204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95640" y="249876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95640" y="258120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95640" y="26654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95640" y="274968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097080" y="243216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11560" y="243216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59000" y="25131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82840" y="303228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3395520" y="30333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30720" y="26258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6880" y="102960"/>
            <a:ext cx="7999560" cy="17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Delivering the Information to the customer utilizing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Multiple Network Connections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9" name=""/>
          <p:cNvSpPr/>
          <p:nvPr/>
        </p:nvSpPr>
        <p:spPr>
          <a:xfrm>
            <a:off x="7097760" y="1960560"/>
            <a:ext cx="1440" cy="378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7446-4213-4DD1-BE1B-2D641DAEAC7B}" type="slidenum">
              <a:t>24</a:t>
            </a:fld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8924760" y="138240"/>
            <a:ext cx="0" cy="85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7360" y="1006560"/>
            <a:ext cx="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17360" y="1598760"/>
            <a:ext cx="0" cy="544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90880" y="1230480"/>
            <a:ext cx="27000" cy="5573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70320" y="1527120"/>
            <a:ext cx="664344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Commercial: 703-706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DSN: 235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NSTS: 964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9000" y="1542960"/>
            <a:ext cx="21477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Verdana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6" name="Group 8"/>
          <p:cNvGrpSpPr/>
          <p:nvPr/>
        </p:nvGrpSpPr>
        <p:grpSpPr>
          <a:xfrm>
            <a:off x="217440" y="2935440"/>
            <a:ext cx="8612280" cy="1461600"/>
            <a:chOff x="217440" y="2935440"/>
            <a:chExt cx="8612280" cy="1461600"/>
          </a:xfrm>
        </p:grpSpPr>
        <p:grpSp>
          <p:nvGrpSpPr>
            <p:cNvPr id="887" name=""/>
            <p:cNvGrpSpPr/>
            <p:nvPr/>
          </p:nvGrpSpPr>
          <p:grpSpPr>
            <a:xfrm>
              <a:off x="217440" y="2935440"/>
              <a:ext cx="8612280" cy="1461600"/>
              <a:chOff x="217440" y="2935440"/>
              <a:chExt cx="8612280" cy="1461600"/>
            </a:xfrm>
          </p:grpSpPr>
          <p:sp>
            <p:nvSpPr>
              <p:cNvPr id="888" name=""/>
              <p:cNvSpPr/>
              <p:nvPr/>
            </p:nvSpPr>
            <p:spPr>
              <a:xfrm>
                <a:off x="2473200" y="2935440"/>
                <a:ext cx="6356520" cy="14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JWICS: dadpm3@inscom.ic.go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SIPRNET: dadpm@inscom.army.smil.mi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NIPRNET: dadpm@inscom.army.mi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7440" y="2940120"/>
                <a:ext cx="2151000" cy="14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Verdana"/>
                  </a:rPr>
                  <a:t>E-M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890" name="" descr=""/>
            <p:cNvPicPr/>
            <p:nvPr/>
          </p:nvPicPr>
          <p:blipFill>
            <a:blip r:embed="rId7"/>
            <a:srcRect l="0" t="0" r="0" b="12897"/>
            <a:stretch/>
          </p:blipFill>
          <p:spPr>
            <a:xfrm>
              <a:off x="1108080" y="3419640"/>
              <a:ext cx="5493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1" name=""/>
          <p:cNvGrpSpPr/>
          <p:nvPr/>
        </p:nvGrpSpPr>
        <p:grpSpPr>
          <a:xfrm>
            <a:off x="210960" y="4203720"/>
            <a:ext cx="8894880" cy="2298600"/>
            <a:chOff x="210960" y="4203720"/>
            <a:chExt cx="8894880" cy="2298600"/>
          </a:xfrm>
        </p:grpSpPr>
        <p:sp>
          <p:nvSpPr>
            <p:cNvPr id="892" name=""/>
            <p:cNvSpPr/>
            <p:nvPr/>
          </p:nvSpPr>
          <p:spPr>
            <a:xfrm>
              <a:off x="2387520" y="4203720"/>
              <a:ext cx="671832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JWICS: http://dadpm.inscom.ic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DC Portal: http://idcportal.inscom.ic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SIPRNET: http://dadpm.inscom.army.s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Portal:  http://www.portal.inscom.army.s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CENTRIXS: http://dadpm.inscom.mcfi.c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AKO: https://akocomm.us.army.mil/dadp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OSIS: http://dadpm.inscom.osis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960" y="4495680"/>
              <a:ext cx="138456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Verdana"/>
                </a:rPr>
                <a:t>On the 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4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 rot="534600">
              <a:off x="1093320" y="5183280"/>
              <a:ext cx="405000" cy="36504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  <p:sp>
        <p:nvSpPr>
          <p:cNvPr id="895" name=""/>
          <p:cNvSpPr/>
          <p:nvPr/>
        </p:nvSpPr>
        <p:spPr>
          <a:xfrm>
            <a:off x="649440" y="1300320"/>
            <a:ext cx="7770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560" y="1219320"/>
            <a:ext cx="9080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Questions &amp; Contac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7"/>
          <a:stretch/>
        </p:blipFill>
        <p:spPr>
          <a:xfrm>
            <a:off x="1055520" y="1954080"/>
            <a:ext cx="617760" cy="658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5D5D-04E0-4D04-A17F-711A9D0F3C41}" type="slidenum">
              <a:t>25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7240" y="-23760"/>
            <a:ext cx="777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6920" y="1743120"/>
            <a:ext cx="8866080" cy="4397400"/>
            <a:chOff x="196920" y="1743120"/>
            <a:chExt cx="8866080" cy="4397400"/>
          </a:xfrm>
        </p:grpSpPr>
        <p:sp>
          <p:nvSpPr>
            <p:cNvPr id="97" name=""/>
            <p:cNvSpPr/>
            <p:nvPr/>
          </p:nvSpPr>
          <p:spPr>
            <a:xfrm>
              <a:off x="1755720" y="2846520"/>
              <a:ext cx="56800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6240" y="2181240"/>
              <a:ext cx="6120" cy="641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65600" y="2808360"/>
              <a:ext cx="28800" cy="24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068640" y="1898640"/>
              <a:ext cx="3048120" cy="465120"/>
              <a:chOff x="3068640" y="1898640"/>
              <a:chExt cx="3048120" cy="46512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640" y="2363760"/>
                <a:ext cx="3048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68640" y="1898640"/>
                <a:ext cx="0" cy="4572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16760" y="1901880"/>
                <a:ext cx="0" cy="4572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259240" y="1752480"/>
              <a:ext cx="1690920" cy="3654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CS G2 Pentag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95840" y="2171880"/>
              <a:ext cx="1690560" cy="365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 Boswel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vision Chie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20840" y="1743120"/>
              <a:ext cx="1690920" cy="36504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  <a:effectLst>
              <a:outerShdw dist="153753" dir="2700000" blurRad="0" rotWithShape="0">
                <a:srgbClr val="00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SCOM Deputy G3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0" y="46083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Link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9560" y="38577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Dres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quirement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2800" y="4229280"/>
              <a:ext cx="141768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Guevara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Requirement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1840" y="2925720"/>
              <a:ext cx="1828800" cy="4748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uction Requirements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cess 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6040" y="4984920"/>
              <a:ext cx="141768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rawdy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9560" y="34671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Torres-Aroch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9080" y="3846600"/>
              <a:ext cx="4680" cy="173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755360" y="2847960"/>
              <a:ext cx="12600" cy="9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01800" y="3846600"/>
              <a:ext cx="23760" cy="20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" y="40068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Cooper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/Graphi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2943360"/>
              <a:ext cx="1687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lligence Web Servic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Information Technology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2240" y="3467160"/>
              <a:ext cx="131616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Foley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2400" y="401004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unt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gration Advis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473400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irmas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240" y="4367160"/>
              <a:ext cx="141732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Smith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rebuchet MS"/>
                </a:rPr>
                <a:t>Senior Portal Develop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0960" y="512136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Jenkins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Engine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20960" y="439272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Argis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 .ne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5492880"/>
              <a:ext cx="141732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all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Security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920" y="510552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Ward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COM 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6000" y="548964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avidson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COM 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22400" y="47545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Murray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Security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1160" y="3848040"/>
              <a:ext cx="1731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4280" y="3828960"/>
              <a:ext cx="15840" cy="106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89800" y="3832200"/>
              <a:ext cx="1440" cy="135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847960"/>
              <a:ext cx="792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73760" y="438948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Almonte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5320" y="43830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Shultz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9080" y="400860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Ellis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73760" y="51577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urham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75200" y="478296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yson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560" y="400356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Corazza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560" y="47736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Ruzinok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/Ops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75400" y="3832200"/>
              <a:ext cx="167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5400" y="2944800"/>
              <a:ext cx="1687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nowledge 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Intelligence Analysts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62600" y="3468600"/>
              <a:ext cx="131616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Brustma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920" y="58705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Goosey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 - R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8563-1BBD-4209-A3F1-D636252D4EFA}" type="slidenum">
              <a:t>3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75760" y="1382400"/>
            <a:ext cx="8271000" cy="5257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Activitie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reate a “One-Stop-Shop” for Army Customer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Ensure nuggets of Intelligence Information are visible to the customer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Ensure Army customers get access to and can find the needed IC information quickly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Train customers via phone, e-mail, online, or on-site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ontact customers to ensure they understand our </a:t>
            </a:r>
            <a:br>
              <a:rPr sz="1800"/>
            </a:b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role in supporting them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Impact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ustomers are not required to be an expert on 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   “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how to request or receive intelligence”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We bring or offer effective solutions to your issu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Bottom line—Reduce your administrative burden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45680" y="103320"/>
            <a:ext cx="8317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Customer Service Program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796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D6E5-1121-4EA2-86B7-59682737E822}" type="slidenum">
              <a:t>4</a:t>
            </a:fld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6560" y="3606840"/>
            <a:ext cx="10800" cy="1272960"/>
          </a:xfrm>
          <a:prstGeom prst="line">
            <a:avLst/>
          </a:prstGeom>
          <a:ln w="63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66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2400" y="3568680"/>
            <a:ext cx="11160" cy="127332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0400" y="730080"/>
            <a:ext cx="168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3160" y="54072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43149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6840" y="3263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6840" y="2254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6840" y="121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960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92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4640" y="2955960"/>
            <a:ext cx="978120" cy="636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00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S G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5397480"/>
            <a:ext cx="479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6840" y="4307040"/>
            <a:ext cx="48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06360"/>
            <a:ext cx="645840" cy="170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241720"/>
            <a:ext cx="468360" cy="72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867280" y="3568680"/>
            <a:ext cx="381240" cy="7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867280" y="3621240"/>
            <a:ext cx="577800" cy="17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12319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17654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2298600"/>
            <a:ext cx="168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898800"/>
            <a:ext cx="168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28321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53280" y="33656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53280" y="44323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53280" y="49658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153280" y="5498640"/>
            <a:ext cx="17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2760" y="-12960"/>
            <a:ext cx="77832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Supporting the Warfighter &amp; IC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26431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21099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15764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47768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ORS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31766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USARS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29600" y="10555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A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42433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SARE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9600" y="37101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SARP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53103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USAS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306072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238880" y="3365640"/>
            <a:ext cx="914400" cy="0"/>
          </a:xfrm>
          <a:prstGeom prst="line">
            <a:avLst/>
          </a:prstGeom>
          <a:ln w="76320">
            <a:solidFill>
              <a:srgbClr val="00cc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7560" y="62485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153280" y="6108840"/>
            <a:ext cx="174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48200" y="44989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980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DO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8200" y="343836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G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559584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OC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5160" y="140004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D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700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SS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8960" y="14000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S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8200" y="14000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416400"/>
            <a:ext cx="685800" cy="60300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S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5680" y="343836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5160" y="343836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FM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98960" y="343836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AS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2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416400"/>
            <a:ext cx="687600" cy="60300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ON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5160" y="244152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G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568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OAS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GUAR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700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TR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98960" y="24415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CIS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980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F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456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980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F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5160" y="449892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GCH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(UK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98960" y="44989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4</a:t>
            </a:r>
            <a:r>
              <a:rPr b="0" lang="en-US" sz="900" spc="-1" strike="noStrike" baseline="30000">
                <a:solidFill>
                  <a:srgbClr val="333333"/>
                </a:solidFill>
                <a:latin typeface="Verdana"/>
              </a:rPr>
              <a:t>TH </a:t>
            </a: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PO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700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RC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568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O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(CAN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9800" y="55958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8200" y="55958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P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98960" y="55958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7000" y="55958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TRA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595840"/>
            <a:ext cx="6876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OUT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1772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216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140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2160" y="3255840"/>
            <a:ext cx="525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241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20636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924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9240" y="12171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3024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924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53352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29600" y="5843520"/>
            <a:ext cx="75888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S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48600" y="722160"/>
            <a:ext cx="4680" cy="538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8200" y="24415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C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4040" y="4875120"/>
            <a:ext cx="1216080" cy="760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IF &amp; O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ctic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B0C7-F81F-4872-9EF0-A83D5D59C5B8}" type="slidenum">
              <a:t>5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6760" y="47520"/>
            <a:ext cx="810108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Intelligence Web/Portal Services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48" name="Picture 17" descr=""/>
          <p:cNvPicPr/>
          <p:nvPr/>
        </p:nvPicPr>
        <p:blipFill>
          <a:blip r:embed="rId1"/>
          <a:stretch/>
        </p:blipFill>
        <p:spPr>
          <a:xfrm>
            <a:off x="5997600" y="3989520"/>
            <a:ext cx="2824200" cy="1830240"/>
          </a:xfrm>
          <a:prstGeom prst="rect">
            <a:avLst/>
          </a:prstGeom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9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2120" y="1204920"/>
            <a:ext cx="78804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9000"/>
          </a:bodyPr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evelop and host customizable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web portals for external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Portal technology supports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ocuments libraries,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iscussion boards, lists, 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RSS feeds, and much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ites are scaleable and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can be configur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Open—all users have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Closed—selected user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Organization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Manage site and data from any </a:t>
            </a:r>
            <a:br>
              <a:rPr sz="1800"/>
            </a:b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SIPRNET/JWICS web conn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Minimal user “know how” experience requ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Provide content management and IT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4" descr=""/>
          <p:cNvPicPr/>
          <p:nvPr/>
        </p:nvPicPr>
        <p:blipFill>
          <a:blip r:embed="rId2"/>
          <a:stretch/>
        </p:blipFill>
        <p:spPr>
          <a:xfrm>
            <a:off x="5983200" y="1903320"/>
            <a:ext cx="2824200" cy="1828800"/>
          </a:xfrm>
          <a:prstGeom prst="rect">
            <a:avLst/>
          </a:prstGeom>
          <a:ln w="76320">
            <a:solidFill>
              <a:srgbClr val="cc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D850-63FC-4879-B17E-E4761F4CF195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SCOM IDC Portal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1520" y="1530000"/>
            <a:ext cx="8031240" cy="49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INSCOM IDC Portal supports the Army's "Force Protection" and Homeland Security missions with real time I&amp;W of CT, CI, and IO by providing a web-based focal point for Intelligence exchanges, links, and collaboration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elivers a user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friendly web-based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nvironment wher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alysts can rapidly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find, access, and us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formation of all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ypes and classification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stant account approval for SI/TK acces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10" descr=""/>
          <p:cNvPicPr/>
          <p:nvPr/>
        </p:nvPicPr>
        <p:blipFill>
          <a:blip r:embed="rId1"/>
          <a:stretch/>
        </p:blipFill>
        <p:spPr>
          <a:xfrm>
            <a:off x="4738680" y="2913120"/>
            <a:ext cx="4043520" cy="2508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FAC1-0166-4DD8-913D-631311DB07AD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H="1" rot="10748400">
            <a:off x="1218960" y="1599840"/>
            <a:ext cx="2995560" cy="3063960"/>
          </a:xfrm>
          <a:custGeom>
            <a:avLst/>
            <a:gdLst>
              <a:gd name="textAreaLeft" fmla="*/ -360 w 2995560"/>
              <a:gd name="textAreaRight" fmla="*/ 2995560 w 299556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03520" y="3625920"/>
            <a:ext cx="6879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9800" y="1989000"/>
            <a:ext cx="62928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56240" y="3309840"/>
            <a:ext cx="2927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1013800">
            <a:off x="853920" y="2004840"/>
            <a:ext cx="1179720" cy="441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JW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106200" y="2787480"/>
            <a:ext cx="2695680" cy="3373200"/>
            <a:chOff x="106200" y="2787480"/>
            <a:chExt cx="2695680" cy="3373200"/>
          </a:xfrm>
        </p:grpSpPr>
        <p:sp>
          <p:nvSpPr>
            <p:cNvPr id="262" name=""/>
            <p:cNvSpPr/>
            <p:nvPr/>
          </p:nvSpPr>
          <p:spPr>
            <a:xfrm>
              <a:off x="106200" y="5640480"/>
              <a:ext cx="264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Verdana"/>
                </a:rPr>
                <a:t>Message Traffic Profiles</a:t>
              </a:r>
              <a:br>
                <a:rPr sz="1400"/>
              </a:br>
              <a:r>
                <a:rPr b="1" lang="en-US" sz="1400" spc="-1" strike="noStrike">
                  <a:solidFill>
                    <a:srgbClr val="ffffcc"/>
                  </a:solidFill>
                  <a:latin typeface="Verdana"/>
                </a:rPr>
                <a:t>(Limited acces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1"/>
            <a:stretch/>
          </p:blipFill>
          <p:spPr>
            <a:xfrm>
              <a:off x="358920" y="2787480"/>
              <a:ext cx="2442960" cy="2697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64" name=""/>
            <p:cNvSpPr/>
            <p:nvPr/>
          </p:nvSpPr>
          <p:spPr>
            <a:xfrm>
              <a:off x="689040" y="3246480"/>
              <a:ext cx="17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rebuchet MS"/>
                </a:rPr>
                <a:t>TOP SECR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44600" y="3792600"/>
              <a:ext cx="2274480" cy="350280"/>
              <a:chOff x="444600" y="3792600"/>
              <a:chExt cx="2274480" cy="350280"/>
            </a:xfrm>
          </p:grpSpPr>
          <p:sp>
            <p:nvSpPr>
              <p:cNvPr id="266" name=""/>
              <p:cNvSpPr/>
              <p:nvPr/>
            </p:nvSpPr>
            <p:spPr>
              <a:xfrm>
                <a:off x="444600" y="3950280"/>
                <a:ext cx="75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49760" y="3792600"/>
                <a:ext cx="1063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rebuchet MS"/>
                  </a:rPr>
                  <a:t>TEARLIN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0000"/>
                    </a:solidFill>
                    <a:latin typeface="Trebuchet MS"/>
                  </a:rPr>
                  <a:t>SECRE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65600" y="3950280"/>
                <a:ext cx="75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44600" y="4361040"/>
              <a:ext cx="2274480" cy="350280"/>
              <a:chOff x="444600" y="4361040"/>
              <a:chExt cx="2274480" cy="350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44600" y="4678200"/>
                <a:ext cx="75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64880" y="4361040"/>
                <a:ext cx="1063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Trebuchet MS"/>
                  </a:rPr>
                  <a:t>SECRE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Trebuchet MS"/>
                  </a:rPr>
                  <a:t>TEARLIN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5600" y="4678200"/>
                <a:ext cx="75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674640" y="5192640"/>
              <a:ext cx="174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rebuchet MS"/>
                </a:rPr>
                <a:t>TOP SECR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0600" y="3807000"/>
            <a:ext cx="2400120" cy="942840"/>
          </a:xfrm>
          <a:prstGeom prst="rect">
            <a:avLst/>
          </a:prstGeom>
          <a:solidFill>
            <a:srgbClr val="ffffcc">
              <a:alpha val="70000"/>
            </a:srgbClr>
          </a:solidFill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4863960"/>
            <a:ext cx="3264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Extracts collateral TEARLINE message from limited access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637000" y="1481040"/>
            <a:ext cx="2233440" cy="761760"/>
            <a:chOff x="2637000" y="1481040"/>
            <a:chExt cx="2233440" cy="76176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alphaModFix amt="70000"/>
            </a:blip>
            <a:srcRect l="4058" t="37833" r="5178" b="28803"/>
            <a:stretch/>
          </p:blipFill>
          <p:spPr>
            <a:xfrm>
              <a:off x="2637000" y="1491120"/>
              <a:ext cx="2233440" cy="75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78" name=""/>
            <p:cNvSpPr/>
            <p:nvPr/>
          </p:nvSpPr>
          <p:spPr>
            <a:xfrm>
              <a:off x="2638080" y="1481040"/>
              <a:ext cx="2218320" cy="745560"/>
            </a:xfrm>
            <a:prstGeom prst="rect">
              <a:avLst/>
            </a:prstGeom>
            <a:solidFill>
              <a:srgbClr val="ffffcc">
                <a:alpha val="70000"/>
              </a:srgbClr>
            </a:solidFill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9" name="Picture 25" descr=""/>
          <p:cNvPicPr/>
          <p:nvPr/>
        </p:nvPicPr>
        <p:blipFill>
          <a:blip r:embed="rId3"/>
          <a:stretch/>
        </p:blipFill>
        <p:spPr>
          <a:xfrm>
            <a:off x="6167520" y="3460680"/>
            <a:ext cx="2435040" cy="21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0" name=""/>
          <p:cNvSpPr/>
          <p:nvPr/>
        </p:nvSpPr>
        <p:spPr>
          <a:xfrm rot="339600">
            <a:off x="5468400" y="1377720"/>
            <a:ext cx="3489480" cy="441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PRNET &amp; CENTRIX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270080"/>
            <a:ext cx="12960" cy="3124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621400">
            <a:off x="7851240" y="3057480"/>
            <a:ext cx="1833840" cy="573120"/>
          </a:xfrm>
          <a:custGeom>
            <a:avLst/>
            <a:gdLst>
              <a:gd name="textAreaLeft" fmla="*/ 320760 w 1833840"/>
              <a:gd name="textAreaRight" fmla="*/ 1329480 w 18338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29" descr=""/>
          <p:cNvPicPr/>
          <p:nvPr/>
        </p:nvPicPr>
        <p:blipFill>
          <a:blip r:embed="rId4"/>
          <a:stretch/>
        </p:blipFill>
        <p:spPr>
          <a:xfrm>
            <a:off x="5556240" y="2062080"/>
            <a:ext cx="3276720" cy="119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4" name=""/>
          <p:cNvSpPr/>
          <p:nvPr/>
        </p:nvSpPr>
        <p:spPr>
          <a:xfrm>
            <a:off x="2908440" y="5560920"/>
            <a:ext cx="32637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Semi-automated process to migrate TEARLINE messages to JWICS, STONEGHOST, SIPRNET, and CENTRIXS consu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9520" y="5751360"/>
            <a:ext cx="26920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Provide exportable database forma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5400" y="63000"/>
            <a:ext cx="777096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Intelligence Tearline Reporting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E03E-7662-43E3-B887-287429DC027E}" type="slidenum">
              <a:t>8</a:t>
            </a:fld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9907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560" y="65160"/>
            <a:ext cx="8380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SIPRNET Message Traff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Object 21" descr=""/>
          <p:cNvPicPr/>
          <p:nvPr/>
        </p:nvPicPr>
        <p:blipFill>
          <a:blip r:embed="rId1"/>
          <a:stretch/>
        </p:blipFill>
        <p:spPr>
          <a:xfrm>
            <a:off x="6292800" y="4087800"/>
            <a:ext cx="2579760" cy="1657440"/>
          </a:xfrm>
          <a:prstGeom prst="rect">
            <a:avLst/>
          </a:prstGeom>
          <a:ln w="76320">
            <a:solidFill>
              <a:srgbClr val="003399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3657600" y="4762440"/>
            <a:ext cx="237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680" y="1228680"/>
            <a:ext cx="8291520" cy="4765320"/>
            <a:chOff x="382680" y="1228680"/>
            <a:chExt cx="8291520" cy="4765320"/>
          </a:xfrm>
        </p:grpSpPr>
        <p:sp>
          <p:nvSpPr>
            <p:cNvPr id="293" name=""/>
            <p:cNvSpPr/>
            <p:nvPr/>
          </p:nvSpPr>
          <p:spPr>
            <a:xfrm>
              <a:off x="382680" y="1228680"/>
              <a:ext cx="8291520" cy="47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ff00"/>
                  </a:solidFill>
                  <a:uFillTx/>
                  <a:latin typeface="Verdana"/>
                </a:rPr>
                <a:t>GISA /DA IIS SIPRNET M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The Multimedia Message Manager (M3) is the standard message handling system for the Intelligence Community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The M3 provides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SzPct val="9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Real-time dissemination of message traffic;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Retrospective information search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Message composition, coordination, and releas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SIPRNET M3 accounts provide access to Army G2 Collateral Message Traffic (including 314’s &amp; ORCON Dat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Message Traffic Sources includ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DODSPEC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FB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OIF/OEF tactical II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F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120" y="4519800"/>
              <a:ext cx="2280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DIA II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BICE, an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other Operational 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Related Mess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16080" y="5965560"/>
            <a:ext cx="8564400" cy="28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more information, visit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– http://dadpm.inscom.army.smil.mil/gisa_m3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64F8-428A-4BA2-8587-3DB16FC81C63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05:29:48Z</dcterms:created>
  <dc:creator>Thomas Link</dc:creator>
  <dc:description>1-July-2005
tom.link@us.army.mil
DSN 235-2294</dc:description>
  <cp:keywords>INTEL</cp:keywords>
  <dc:language>en-US</dc:language>
  <cp:lastModifiedBy>d6x7n0</cp:lastModifiedBy>
  <cp:lastPrinted>2000-03-07T20:29:46Z</cp:lastPrinted>
  <dcterms:modified xsi:type="dcterms:W3CDTF">2005-07-12T10:06:34Z</dcterms:modified>
  <cp:revision>1556</cp:revision>
  <dc:subject>DA IIS Mission Brief</dc:subject>
  <dc:title>DA IIS Mission Brie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Y:\IAOP\DISSEM\Power Point Slid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772819845</vt:r8>
  </property>
  <property fmtid="{D5CDD505-2E9C-101B-9397-08002B2CF9AE}" pid="23" name="_AuthorEmail">
    <vt:lpwstr>timothy.j.smith@usps.gov</vt:lpwstr>
  </property>
  <property fmtid="{D5CDD505-2E9C-101B-9397-08002B2CF9AE}" pid="24" name="_AuthorEmailDisplayName">
    <vt:lpwstr>Smith, Timothy J - Federal Way, WA</vt:lpwstr>
  </property>
  <property fmtid="{D5CDD505-2E9C-101B-9397-08002B2CF9AE}" pid="25" name="_EmailSubject">
    <vt:lpwstr>mission_brief[1].ppt</vt:lpwstr>
  </property>
</Properties>
</file>